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  <p:sldId id="295" r:id="rId103"/>
    <p:sldId id="296" r:id="rId104"/>
    <p:sldId id="297" r:id="rId105"/>
    <p:sldId id="298" r:id="rId106"/>
  </p:sldIdLst>
  <p:sldSz cx="9907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slide" Target="slides/slide40.xml"/><Relationship Id="rId104" Type="http://schemas.openxmlformats.org/officeDocument/2006/relationships/slide" Target="slides/slide41.xml"/><Relationship Id="rId105" Type="http://schemas.openxmlformats.org/officeDocument/2006/relationships/slide" Target="slides/slide42.xml"/><Relationship Id="rId106" Type="http://schemas.openxmlformats.org/officeDocument/2006/relationships/slide" Target="slides/slide43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5" name="PlaceHolder 1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3043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in NPT, not YG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3051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o clarify that 15% preference applies to locally manufactured goods regardless of the nationality of the owner– this is important particularly when  Myanmar will have more and more JVs in the fu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3053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 point #2, installation will be carried out by government financed contractors or utilities themselv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3055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specify where ad will be made globally in English (UNDB website and other sites? ) and how to access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3045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ing agencies are Ministry of Electric Power (MOEP) and Department of Rural Development (DRD) of Ministry of Livestock, Fisheries and Rural Development (MLF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3047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e chart is outdated as it does not include  NEP ($400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PE is not relevant here.  Please change “MEPE and Utilitites” to “MOE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DD0F3-D075-410C-9C0D-3DE733A1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4399-E597-453C-BBBB-B2D7FEDE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E1581-5662-4F24-B9FB-0741CD50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6F9A9-CE0E-4F3C-884F-C6BDDD0A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60894-8126-4192-9EDB-32570219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B9DDE-E435-427C-9861-3672E791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00666-6F74-4B5B-8000-664F5A0A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6091B-0559-412A-88F3-6CDCAE57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D9B5D-58E2-4691-B29E-1DAFF884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CEE0B-46B7-4784-9895-1532C0FF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9B590-6B44-43E5-B697-24186F79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ACEF7-162E-42B1-A10A-6E8DCCED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9F51-35B8-498B-AB6C-0EF6D9FF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0C870-82CF-44F8-87C3-D85E5AEB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15D6A-2A27-41DB-941A-AC546C45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CF8C2-F91F-45B8-89E7-2740513A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56ED6-7F41-4FEB-A39C-F03BD827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3A8D3-8B1D-420F-8E61-66EC4033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78761-4F18-4507-BB0A-6B213838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F45EA-A3B8-417C-8CA5-CA578138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C34EE-E620-4217-AE76-4D2FF79E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FA5EA-6261-4C99-996E-288C6184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DF913-15AB-49B6-A48E-3FE9141E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57543-1612-4DA6-9ED4-F8A276A1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CB427-FABF-41E5-B774-B5305595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54895-3449-4748-A73F-2DA44558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61A13-00D0-4913-B99F-7EA008EE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F890E-1B15-4683-B44C-04395E5D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677EF-45C2-4D85-994F-67E783D8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A5C95-324C-4891-838B-42DA6633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53C03-A7CE-4A4B-BB0F-5657682A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C53F4-A5DA-493D-9BF5-B088A4CB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CAADD-FF2F-4557-8F95-A4C3D24A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5CCFF-4E21-4B8D-AA4D-AD70E9D1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73E8-CB8A-4B18-9E80-35BB24AA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E7B60-8C92-4026-9693-D921382C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1EE51-9124-43BC-9CDD-41B87635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54D12-ED28-49AF-BDB5-1E1C852D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5962E-9162-4403-85FF-667EC2C5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D780A-D342-441B-B44E-03098852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282C7-F7F7-4412-82D2-21E9373B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D9330-6122-42A5-A5F0-9D8D03A9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D1D78-AC0E-4530-BE9B-CC86DC47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70F9D-0BB7-4BA5-95C7-6A176263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40C8B-95D1-4188-942B-9B1282E9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3BCB-071C-4C73-9E28-69644DE6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B3339-9B3A-4532-A376-2796B7ED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21D55-1991-4D2B-9915-589387FC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6F716-B386-47A8-B001-486900CB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E3237-7E9A-4726-ABF6-22DF4CB3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02F38-CAF9-4EB4-9631-307B6DA5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08DC7-3CEB-41C6-9210-BFF96E7D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4A89A-B7DC-4DA0-A36F-B6D3B9F8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82B3A-60C4-4D5D-A7A2-8A791B55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013CF-A8A5-4349-847F-6BD99486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5FF70-3ED4-472B-94C9-4235FC56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8002-9AFD-4968-84B8-5AA838C4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B05F3-F4BE-44E7-AFE8-6F41FBE8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14A5C-62A6-4D4C-B8F5-44EBD690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187D0-23CA-434A-BE42-567A51B7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046E2-B090-48C0-A038-0647B846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F85A8-F7D6-4C94-8234-BFA6A2C5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B894C-EC6E-4CA8-A22D-F73A1C9F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E6E24-04B2-4ED6-A528-15B8D3C6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835A1-1C00-418D-900D-AA8840BE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D1691-2BA6-4BD0-8081-81F40D6E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54DCD9-AA80-4AA0-89FE-B3A798F0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3C06-5962-4E91-8859-9915A6D1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95D22-561D-4476-BC85-E60E8E08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968FFF-A466-4199-BED0-CC14E417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E81B9-3438-4120-9A73-1C5917DE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FB0C3-C681-4006-B65E-BC3266EC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D1F18-366A-40FD-BDEE-F7EE50AD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A6E5A-6934-4360-B86B-6B336471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F0C89-BADC-486A-95CD-8D6FE05D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D4502-E057-4EFB-AB15-E16D2A5B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CB123-8C59-41F0-BFC9-D694F23D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5D5B3-A99B-4112-9D9D-DAAE319D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0484-8238-4C96-BE62-6022B3BE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6FD278-A961-436D-A16F-2784C972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1A340E-F825-4FDA-B8A5-CDA10134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243301-13C2-4D81-B5BA-3B06EDD1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E91A92-CD9A-43D1-8B1B-A21117D1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227BA-194A-47C8-824E-73A29C01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7AA8DB-365E-445E-9D54-33FCEDA9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8E7ED0-85E7-46FC-BEB1-6653BA7A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11994-94EB-4F11-841C-753501F5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20976-AF67-4CDB-8619-0E6DC4D2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ACA8B2-7EDF-43E6-958E-0D9C0C5E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6587-0CC5-43F6-8556-673BD623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68B388-4EDE-42D1-BE54-47A5BA4E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72D360-0EC2-40FF-8296-54A00BF4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958FA-2B77-4448-A086-BA0C6707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95C93-0D01-40A6-8750-300130C5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FC957-2A2A-41E3-817E-C8DB3F05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A0CF1-7E69-43D3-90AC-F5B7F265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3A2965-63C6-4EEC-BB0B-4D269D38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27E54F-C183-4EC9-A6FC-CD06743E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4A54E8-3458-4FEB-8781-373B23F8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01FB1-0B2A-4058-9C2F-875A65FA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1591-620B-47A1-9EFB-CA9E5B68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9A928F-7DFE-4496-856A-A1C394C4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CD626-5B73-4E36-A24E-E368F82A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968295-0956-4A76-87B7-7FD88D5E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5DE4A9-3EBC-4A55-84C9-3847DFF8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AE3697-F1B9-4628-BE30-DE808381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5D5E97-4445-4EEE-B484-56E6664F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9FA41-452C-49C0-8402-B3B8FB5E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A9331-46D5-49CC-AD21-632CB34D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61A6EC-C010-4A92-8D38-7B023C99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E1CBCF-19E0-43B8-9B08-3AAF39CF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E83FE-D6C9-48D2-AAED-99EB9BFD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3E17-7C8D-419C-B0C3-3E530750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FDC65D-2E1B-43AB-B510-AA5B0CCB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19CCC-55FD-4B4E-89DB-3E2FB5C8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6837B8-9F8D-46EC-8FB2-A850171B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2001AF-3CB4-4FD3-832F-A4A21C3B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0BA3D6-49E0-47E1-B37A-C318E8C5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CF7B9F-82C4-48D6-B3AB-2BB28E93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9A7DFC-CDA2-4CC6-BE1E-57479FB1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21288-3C67-4EBB-B991-FFE2B770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3F5F4-300F-4F10-9970-C5EB662D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FB823D-7236-48E5-9803-B6A0E97C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C361-36AB-46CC-9DAA-A3F69DC0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8FF1F5-32C6-4EC6-BF34-F3549588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1EB5D8-5784-451B-B401-ECC5FB63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7AD04D-170C-4867-A08C-83FDE22C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973322-37E6-4663-BE4C-C3ACBFE0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FDBF65-1CB9-4BA1-93AC-3465FA5C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4F40B-E6C9-466B-A75C-E985E701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FD36E-96F3-40D2-84B9-CD6392F8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F2028E-3F12-47D8-BFFE-0EC2CB27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03A70B-B4AE-4249-986D-AC7478CD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8E1F7C-9041-416C-B126-92D971EA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93E0-4FA2-4821-A6D6-A548B0A8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F13E87-58B4-4CD4-9A79-34720846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6AA3FB-C700-446B-9949-E2BB0147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5A350E-3654-4B30-BA82-8E4F9AFB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CAD790-FD5E-4C68-A094-C0397D80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24A675-F423-4FB3-BDDF-A57DA016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181CBA-A1E4-43E9-AAB3-A71AAC21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16C87D-1B51-4053-8C32-BFE22957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9C34C-2C65-4E95-96BD-0AC1B6B0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934A57-3823-4C93-8248-0F493C0D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943BA8-B44F-4257-BB65-13C2DA6F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4699-767A-4789-BA6E-18F9BD21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ED25C8-EFD5-402D-8719-E85FD2D9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04A213-8E8C-48FA-8262-D75DC9B8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302843-B52C-4479-9276-73516885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09DEFF-4DF6-4524-9396-7B403554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6F163-752C-4812-BCC7-5997FC3D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A52DCF-B7C1-4441-81A8-6FA9D74C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1EDA8C-3F0C-4A6E-931C-DA861A4A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019949-F7A6-445F-8621-7C0C5A9B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39C7B1-A6DD-4B99-95F9-D695BD82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A3D814-EACD-4058-B33E-AA1B71B4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9E9A-A9E4-4BB7-BA9B-EEA247A6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D3A3EE-CA26-42F5-90C6-DEE63949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EE711F-8C58-4FD9-AA63-7EEC90A5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8F2CDB-2DC7-4926-AB58-4C5FBD68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260CF7-0367-476E-A218-26F44C68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931211-BF69-43B0-8ABC-74563299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C96B9C-06B5-43E3-86A0-3CE3DBDD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90D4D5-F97A-482F-B203-C906D102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AEC20A-7E90-49DE-B89D-E1098B94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88CD6B-061E-42A4-84F3-34A2B608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101345-7B23-4F2B-9151-649F66CF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FF5C-8473-4101-8E6F-83E66352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097D30-DB04-415D-A8E3-BE288743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B47A79-AABC-4FEC-A105-9C22BD6E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64EB5A-068D-4701-B98A-7E412663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00D851-4765-4F4D-A12E-32477CB3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F622C8-A7D3-4C23-80F3-B99BB068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FACBCF-0747-4F32-AD20-3EE737F4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F8EC01-21F1-4BD8-895E-0D03C888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34717E-E011-4E62-9E46-FC06EA1C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9899C2-390D-459A-B5F4-3DBAA07F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3F2DA7-6F0C-47F5-AC44-F021B13B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D7FF1-72CA-495B-8424-BE6856C0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DA2E49-9C4A-4390-8004-5ADE9D2B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13E6EC-BD48-4E06-975A-87AD894E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0646E3-A89D-48EF-8A0C-4098A6DB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4F3AEC-42CC-45CC-B5B5-67C09253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A672DE-FEF7-4A41-96FF-07C01205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153802-EDDB-441C-BABA-6C19EEB9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269E72-C5BB-4095-AEE3-9206BA0B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B1128B-03CA-4A1A-A470-08AC2BFD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31B580-B0C5-4B0C-90F3-9079483D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886587-740D-4929-AACE-90D42E8E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96505-02D3-403C-A5CA-5D0FFF9D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6E7AD9-956C-4DF5-9665-89E7B894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5B7852-513F-4A8E-934B-CAD22E60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D751E2-74A8-40EA-8982-D53A17D5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A9EF5F-AAC6-45C5-A2C4-BCA82CE1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862B8C-733D-4A53-A1CE-E663307E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43EFDD-E53A-4CBD-B476-7DFEA353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1362BE-9227-4A8C-AB36-873063B2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1A709F-E736-4E4F-8136-84233B76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01269D-A517-4082-9CB2-E1F4A04E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DB62EC-E2BA-450E-9158-6A97748B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380F6-68ED-43C1-BCEA-D36F0436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6A4F3F-DE10-4E52-AD60-F7D26B43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CFC0EE-98C9-4599-BE57-194B88AE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75FA31-997B-45AC-9636-A7F92F34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846C64-C135-4F82-BA05-7BD20B9B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8B6B98-DACB-4633-9913-057AE672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09C054-0B40-4DBF-A74D-B3181380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29FDF6-8639-48FA-9401-B5FE8D2B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93B6B0-8B90-48E4-9B00-65556CA6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AA0B99-A048-4A79-8E3F-90A7B634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D9D59E-7A34-40D9-B3F8-DFA379A5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07A2C-BA7A-4B1A-8525-2333053B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96F939-DA05-49E3-B81C-19116F10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EFC04A-E32B-4FE7-B47A-C61877BA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1C0F75-FB72-4587-81E7-72CF5845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F15119-914F-4FF6-BC63-B4DB5AA9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DDFE1C-E079-4237-86C0-40247BE1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7B7C57-7567-4F9C-94E9-0B4F3D27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B1651D-ADEA-433E-B6D8-ECCBB3EC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B0B2F4-97C7-489E-AFC1-5B49CEBF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E19947-A693-4B36-8199-E9D1D518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17DF2C-393B-44A4-8605-0AAEBEF8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B3E4-BEED-4069-806C-60E15C5B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A0B2-974F-4C2D-8455-6232BB16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E8B031-38C8-4E0A-8390-46B07B61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2C393F-2355-40BE-828C-D8B13A79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FC81D2-3424-4041-A42F-AA95B506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4F19B6-7A36-4353-8EFD-BC695D11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79F8BC-CBD6-407B-9136-F8459B7A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BF1CA0-1492-4AEC-B4AD-A809D609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B86429-7B38-4C5C-A3AA-F916C899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D10C01-5423-4A4E-9B5C-94153EDB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154A40-CD45-4989-B024-D6D511F3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BF5799-4C59-4F43-BC99-2A59E8EB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4F1E3-91B0-4CC4-A2B8-BB687A84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AF65C6-DFC6-4FBC-900C-A79B8F4E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FC6106-47A8-4DD0-BD3D-2ADAE009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32C2BA-4ACF-4F76-8520-1A291CA8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FCECFB-E90F-405A-A0E3-67E730C8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6BF1F9-D6C3-4392-8397-F23467AE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6AFA4F-37F6-4A0D-8B28-BC4FD027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95A9DC-30A1-453E-8137-F643374B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287FA9-2EF7-4FF5-AAE8-B1D50E34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078CD3-6CE2-482D-91AA-60D6BC50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F183FB-423B-4E5A-8485-200743C7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E09C0-A18A-4BE1-9ED2-76B61A78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F004D2-7244-4215-AE86-F82E6977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DEDF64-C4C1-45C4-8BE8-9983FCD9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C93756-1A39-4D25-94ED-5D2D5386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51D9C0-2F0B-442A-BFEF-989CE879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C287CB-19FD-4326-ACAE-A34F5A9A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78580D-B175-45B8-8F7E-525214DA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5B34B7-47DA-49E5-94BC-BFC22C87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4E48F0-2732-478D-A55B-D326EE06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330378-148D-497C-8D24-9269D18F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8FCDEC-E4EB-41D8-9FDA-D49C159A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ECF19-6B1C-4E2D-9291-B7BDEB41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FFD0BF-3A26-4B6E-8499-F2984535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899BC1-1C3F-44D5-AAB0-50E7B998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74A3E0-5114-4B37-9334-8D6F9444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DDC8A7-9A6E-443B-8059-EF7EB13A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9A197C-BF33-4618-8195-E574F0C2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649766-40E0-4B5E-8C29-746BFD12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454BE2-BB6F-47CD-BEE6-7BAE05DD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85A73D-0B2B-4CC8-862E-699142CA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E4908B-A2BE-4A35-81C8-0E04412E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F65986-95F2-4039-A33D-6F5DBE0A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9E91-0895-41C5-98FE-E8BA2EC1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470EAB-E218-45F7-BBF7-E5AB3EC4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6D598D-1CAC-4105-BC52-7919CEEF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32E8E1-D126-4762-AED5-1E5DFA39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0F1606-05C6-4C51-BF13-77132F6E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B62B6A-FDAB-4F60-A656-3055446B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0A68AC-09DD-428B-96D7-642BED46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D5006B-9291-406B-93CD-017BF06F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9117B1-FD99-41E2-A749-B7E6E6D8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7B9DBE-414B-42D7-BE17-1C3AED90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C580E1-D752-40F1-B694-BB3A8543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2CEC-E1E2-4590-AEA5-9D846DE6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A1C750-6993-4739-8EB8-6CCE0A68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DB8277-BAF6-4D36-8A39-E4AC3E6B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464AFB-1DBE-4E40-BAC4-9DC18462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B79503-05CE-4A56-AF4B-0FB2382E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805D4B-9231-4E7F-9798-E7AF9E29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ABC620-7B02-4996-BB38-731E0C25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945840-4A00-41E1-B57F-02F81EC0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4B8FF1-69EB-4CE7-ADC5-1511F154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CB653E-6E11-4B8B-9FE5-424850DF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C82B21-5619-444B-A87C-664370CE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FC7C6-7540-48AF-AA5B-3E314B2D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BF0603-5C83-4324-A9D0-41472F81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8D10B9-A273-400C-8172-31D64024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8C70AF-A4C6-4432-B12F-D0F6AE25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3B9DB0-93ED-4175-89EC-B4297ADC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6405F5-09F0-42F9-BEE6-24DA94FB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AE53AE-E207-4782-B3EE-B80416D1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96BDEE-5745-4071-9454-8373170B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40DEAE-E629-45B0-AAD0-C8578C8A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847021-198A-49DB-88E9-AD3A839A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274FBA-76B5-420B-86B6-05396879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BCDCB-99A9-4119-8969-5D98A1B1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6BC7D6-8237-4108-9507-AAD71ACA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BD74CA-72B4-4E90-8F4F-E65F091A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B6CDC5-B922-4E64-978A-9AB2156E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03895B-FD42-4511-9E10-90246FCB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9CE32B-604E-4EDC-A328-7DFDAF29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FA9AD9-87C5-4896-8665-725A5AFA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E333EE-7D61-400C-91D6-51A453B6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9DD9F3-3697-4EC7-A096-254FCBF7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90442F-A5CC-4B38-9DDD-794C0C98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4918C3-B15D-41BB-8ED4-0458DB7A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E361B-E374-43DF-BF0E-2AA52801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A62E95-41A1-48C8-B502-4452E4DA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16B5A8-61BA-4F66-8654-0064A479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EFA677-876C-4FD7-9B9A-86623026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B2A8E2-F646-478A-86D2-FD9440C6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398CA4-B7E4-44E0-AE06-1541E6B1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BA9466-756E-4793-BABA-041F7380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07F011-DFAD-4B99-A45F-FEF0C818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60A08E2-BD3B-4977-BFF7-DAE2C8B0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49C55C-B17A-44BA-85BC-E2E8CA11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4A99AB-AEEE-4FB7-BCCA-5433308C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3B833-8465-4168-917B-DAA4B8D3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6ADD08-FEBE-462C-B3E0-3653D068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0A80FE-75F1-47EB-A5C2-ACB19E9B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7FFAE5-7A24-4C44-BACC-CBABDF03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E17A3F-E359-474D-8EE0-593735AC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5E3D2E-3201-4703-9E00-6C1E1A4A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52C45B-1CE9-47B1-AE07-979CC336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5ED222-4CCA-4336-A975-99FB2B3B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E2292B-C2EC-4B4B-BC05-3CCC7D78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365741-9410-4A7A-8A6E-1B0DE6A0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D43F5A-090D-47B5-9F62-27644F55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7AA9D-0D53-44C9-8527-B243D2E7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F4A96-C245-4C01-8DC9-9835CAC9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DFDEC3-CDA0-424B-AFA7-62325046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DDD563-12DF-4214-9367-F55A3A0D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B79811-5532-4E1E-BF7E-CDCD105D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FE6924-03EE-4697-8323-05C7B5AC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A6509EA-9115-4593-983C-B9A15B2F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D90382-4DF7-4EBF-BEDC-E27E507E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EDEF81-7C9A-4A7F-AF8F-5094DF6D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46937E-9F14-40DE-8678-F07858F3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183B1B-AE83-4ECD-8B24-021C0D90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6AED6E-9123-48F5-8749-30F7D791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85F36-8CF0-4822-8E49-B709D2F8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BC4191-7671-4EEF-8114-D2034AC4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24A15B-8B8C-4BE0-92E0-1DED7B50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558BBD-4759-4581-BD71-C60BD01D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50D9E8-3379-4164-ABE5-362923B2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5F0F84-6118-44CB-A103-A5B0430E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2A64B6-DDD0-4FD3-BDE0-606B9967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6765E4-4DB9-4A84-9799-7D817EEE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388478-4368-46C5-A98F-8ABC021A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48CA2E2-C87D-495A-8770-0EA0E08E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728814-783D-43B3-874B-BE954846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792B0-CE36-4B81-9070-98A4C7A2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E625211-0161-4223-AE4A-CC2227F0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9EEA81-F4D0-4723-BECF-3824F922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1F75D53-E6BA-4618-881B-AB1EC163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ED58C5-CF7F-4169-AB0E-04A9627E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62D8648-A347-4D72-BABC-6A245F56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49248F-4599-493A-B4AB-6CD12BAB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B496D3-F7FF-4BB7-B105-781079CD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512C46-652E-4F7F-9004-FC5B9E6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4F11CA-5DF2-4287-90CC-E1777446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534704-FFF3-47BE-9516-31433479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8E3E8-ECF2-4CE0-88A5-9FBFE760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6C4E14-EEA5-4D07-B2BE-3015FEC6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E75414-ED18-4115-9F9A-57980B20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C9B980-2E65-4313-84C9-1B8F4AE9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77A9B6-FAAA-4770-908B-7D045BB6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780970-30B9-4F5E-8A7F-FE3B1852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7AEB08-FF57-4EF9-84C7-14E4E7EE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0D6581-3465-4D6E-B93E-EB5585BD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36389B-383C-46F7-891D-780F5A95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20FC9B6-C870-470C-9BED-56459F60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69D9441-0C5F-4EED-9661-E8958635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3B2F4-95F3-4AD0-8CC9-9622F2D9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9D2AEE-3B26-496B-B59E-209BBE7E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DA422B-CF99-4B6C-AE48-8936804B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B6D676-14EB-4CCD-B135-5ACB9209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F48C116-20BA-47A4-BAFD-6837BB82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5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6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6BE35A-DC9E-44A1-823F-D84132A6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569048-733B-4702-8F27-DE54F971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DD49373-F964-46E6-A254-B6EE6E0C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0DBEA88-13FB-457D-A810-88EFD365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A7DF8A-B1F1-4FA8-8243-280953A5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169278-98DA-4620-BE21-9A249353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2D766-BA41-480A-917A-013DEEC8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6346A2-8BCC-4F28-84A6-802EBA8E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E59398-D3BC-45C4-BD7C-98271FF0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94ED4CC-1599-4DEB-98E4-1E531F24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576C0B9-E714-4FE8-BF43-8C0F81A2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606185B-5F57-4708-81C8-229D79A7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074ABC-0C6A-4321-BA42-9B340525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8548B7-A4EE-49EB-AE32-BFC81785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4D1E740-27FD-460F-9D94-825E6A90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E5D27D-7B93-4146-BCBB-9543A319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9C1A00F-8DE8-4AC8-8828-8407F084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496C-8622-475A-9DFF-9344748C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0B96E50-53D7-4867-B04D-8BB40C86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5ACFC22-ADD0-4458-8DFF-A942E63F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BDEBE20-464E-456A-B065-0032F734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4B61134-37FF-45E6-B73C-D8176254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FAAB13E-DFF5-405E-B4E9-384D89B2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1F148D3-C71F-46D0-B673-B90FCD5A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7DDBF85-E9AC-4128-89E7-E9F85478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90B27D0-0247-4C98-AF26-4C8D5306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CD4594F-4A44-460C-91D0-184EE477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B83E790-447B-4C91-A3BC-C0104B2B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A4C7F-DAA6-46F4-ADAA-149AC11D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5636FE-BB2E-4BE1-907D-B41A7972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20505F2-4A4B-4D9F-9252-FA1280D9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69AE576-2413-4BF8-AE58-00AD8DD4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2E4957B-C3E2-41BD-9F72-CDE657E3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E663DC-55B3-4CF6-AFA8-5327C7EF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338BEC0-53F5-4D23-BF57-D5D6AC5D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79FB05F-DB28-4F8E-970C-77E01702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0FB5195-0F4D-4DF3-8F39-85AE8696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0F0EC5-ADDE-44F0-8D54-32E20F23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949318F-56EB-45F4-98CD-4663232D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62D2D-1156-4F27-A2F1-7E754F47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5E7E817-AB69-4028-8102-013696CC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FA92CA7-7F60-41BF-AFD2-CE5D8B86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804DFFD-77F4-487F-BD95-4FB54C04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AC3E542-BB01-4E3C-BC81-368975BB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AF5EEC6-D328-4D86-A558-DD91A851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4FAC515-E5C3-43FF-864E-3F3F1942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B6B45FC-4CA0-4628-8D52-84A76B9A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B04BBA9-612D-46EB-B60C-CC0F290E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40A14FB-FED3-41A2-909C-EA6CB797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7A0BAE1-D951-41D0-9035-5A7CEAE8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59EAD-3B72-4606-A2A7-ECCEE898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075939A-D253-41DC-AFFD-DAC3161F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EAB96D3-78BC-4780-BF68-886BCD8A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8146F3-6896-4921-9A04-F9968685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7371F2C-002F-4809-BB62-24FB52A0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335A2F8-4880-4D74-8EBD-3E576D22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0A2D0F9-1659-4659-8395-2DA1F239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2FD6CB9-CA7A-48A3-916B-9951A828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1115C8-9541-42A8-9C68-30335EBB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8E8FC41-2A3B-4414-AC62-D2255CA0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6270C0A-8AE3-49B9-BAE1-0C23187E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D204F-9B85-4F95-90DC-B1AD4163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532D1-6767-4EF1-B500-3164FDCD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7BD5368-9AD3-43FA-8659-DCF6A95E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B6578E0-5B44-44DD-9725-C5259C5C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F6955FB-411F-4380-8A73-421A8CD7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4B40D6-63EE-4DDA-8993-EE5FCE8E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5E4E869-9A1C-4986-AA35-829880D3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C4A2527-1FC8-441F-A628-AD624F57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791AD74-4CEB-4251-B254-24617307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9216ACE-2D4E-4EB5-A700-4C3D7D14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D60B465-1879-41AC-A14E-4D8AF55C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24A66F9-18B3-4E1F-BF74-20D6D6D6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778E5-DBA6-4985-903E-9E7C942F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0F63AF0-0D55-4E20-AB38-9F75C314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3EEF296-5281-453F-8813-613C74C5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B47CC9A-7CB1-4181-9FC4-85D35A9F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02AD6DF-6E24-4F7F-92D8-7E1B2D31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418D0E9-80D8-4117-BFD4-B516DBE6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A03E85C-955C-46BC-865D-9879E009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8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9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6A518B-AE74-4C83-9FB1-DFAE392B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D9A965E-7B64-42FC-A0DC-FCB59934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D84380C-6F0C-4B37-8663-552C17E9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81BEF4-754F-4BF1-8261-8CDCC067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D162A-B082-4EEB-A0E5-6E445B72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63CB373-331C-4C52-A1E6-7F6D8133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BA45F4A-B07A-4D79-B002-98EF0F1A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D2FB60-6765-48A2-A814-1A4FC872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494A9D3-58F6-49D4-B10C-586DC47C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83F8D3E-8B5F-4B88-B568-C7A642F0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9784098-E165-44C7-B7FA-305C65FA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BE53DBC-F2C4-4D7F-907C-748F9E51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25FA747-8E32-4803-9A7B-A3AB0A6A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8A9852-269D-430A-9756-7E825E2F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B6B7604-E2C5-4D73-9D19-2CCBAD47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CA1CA-E8EA-41CD-BC2D-3756BAD0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1D47186-29ED-4D68-BE03-E3C09DCC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C551868-1D96-4ED1-B91F-33942F9C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854FA37-6E10-48FB-A6FE-B0FF8A01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AA89430-F747-41FF-8757-379AACD6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1FE9AA1-C654-4319-8E3E-23708442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17B2B1C-28AE-4927-B38E-6220A476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777ACB9-1A06-4C1E-8F70-A5390B5B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FD6FBD2-4885-49F9-A79B-CD566399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5B056B2-95BB-47BE-AE8A-7D66EDCD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AACBFB3-EE9B-4006-BE07-8D77B69A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17835-2BCF-4446-B477-CA2CAD1B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642CEE1-4400-4B29-BB8E-3FA9A60F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54606DB-A042-4972-A1E0-A10608DD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C1126E-1866-47A8-B5D4-F082F347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A4C5AB3-FE17-4BCB-8957-7161642E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8CC082C-3FD3-43EB-8E6A-867BC010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488C0F5-D299-4445-B5C5-19A6FBFF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E08FCF5-D9A4-4426-9818-7567F389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801EC35-12CC-4AE2-89DA-E593AD22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4C75457-BA86-451C-9A01-CEF316BB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4109EF0-A381-451D-A457-27031480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3305D-5B7C-4E97-9C8C-DC5BEA09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050CEE6-FDAF-40A1-864D-01FB0E5E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98836A3-3FAE-408F-94B6-E31EC995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20D43E3-4C02-4CC6-9C6C-692CBE6E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975F4AA-9098-4AB5-ADB6-8F1FA27E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495F9D0-0A50-4472-AD92-C3691989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428BEDE-D3F6-412A-9A84-B2F53062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1CE5794-B9DF-403C-A8BE-BEDD1CF0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8B952F5-9629-42D2-AAA0-5095F618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7A8C54D-A1F4-4A56-BFAA-4DC767FD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C2B15D9-D41D-4B01-81D4-8314EBDF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69B4C-2E57-4541-9F78-B4CDEB5B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3D0B787-E81C-4BBD-BDCC-81CEC854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487FEC4-EA8F-4BA4-B922-DDA095D6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F87646A-C412-499B-9628-7A64EC87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F2A460B-3BCC-493D-8346-1D8D5C17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193912A-433D-4F25-A7FA-5C268253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69E76A-63C7-46D9-89A8-A850F425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B18BDA5-24B4-4A31-B89C-45DF9D76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3C721C8-F9E0-48EF-BE05-393E5A45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FE29EB1-2CB5-43C4-9676-2225604E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08E0C3D-08C4-406E-BE8C-F104B1C9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E20A7-7C8F-409C-A6EE-E32B1586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37D2B25-F5A3-49FF-9D2C-7ACCEA19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403450-A92A-4105-9FF6-954F2298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C1F0E0B-FF42-4B06-BC59-FC261649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3D6AD6B-FB37-4B7D-B431-62158B3A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7E23FD6-835E-4DEA-9AE0-3D73E0DF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9B318D3-9C7F-49D5-A6D9-0DAFFE9C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5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6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266D336-B2EB-42D3-A29C-DF8BADCF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738B3D7-65F1-4E90-9822-5741D2C7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CEC75C4-A230-4DDA-A9E4-FAD8A268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FED4955-7B23-4F29-A8B4-94C47FB7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B0C97-9449-48C1-9384-31F5BDC8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B7D192D-69DF-47FF-8183-0B4BA238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D5096B7-5509-4C99-A6FE-9D8264C5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981E7F7-FE13-44C7-86CA-C8B24E6A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7FBA567-2332-4ECB-81DB-33013A97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7B02F81-E8B0-4A2C-8483-FC0F5729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14BCCFD-9711-45E4-8D57-0C9323E2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8293C13-AEEA-4C37-B891-6C2E22DF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B03344D-7860-462E-9764-099B16B9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ACEC1AD-1876-4CFA-802E-AECCA989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B5FA546-02E3-4FCD-B14D-BF4A5DCF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3EECB-B24A-49E2-9BAA-6AD49CD5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989A271-B76E-45B5-9420-67F43707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9FE007F-20DB-459E-B834-C6CDBECD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CEDF790-D8FD-4D36-965C-30BAD391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05E229B-F202-4524-B64D-BE2DE682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45BC0D7-8AC0-4727-8C62-8A126DA3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DD395E8-25B4-4EA9-B163-2FE43A2F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69E1968-C400-4849-87F0-844B99C0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9AAF21F-F5DB-4A19-BCB3-35F6FE71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D71B7B8-92F9-440C-8486-F1F0096F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B4A0765-0E00-4CA0-90AE-7E569B95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C4E37-61D7-4B3C-89A2-F82885D1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0BB1D-7801-4BEB-9A5A-61DF5EE3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A6739F5-2592-4794-A2D3-DD96C0A6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482E858-66A7-48E7-8223-3550C1E4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1F86B45-42DB-4D24-B36B-6055A893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85A4F2A-F8AC-4FFF-8168-BC551A2A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86C75EB-80B3-45E4-ABF9-87069E6B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EB5D749-BB00-4FCB-BEBC-8D975302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14FB1A6-D2BF-48D1-94DC-541BE8B3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74A75E6-CF38-43EE-9E3E-59D96C25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1E7B5A1-E0E0-46A5-B5CE-AC06CE26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455BAD7-882B-49E1-803E-C4FB47A6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98D9D-99A8-4021-82ED-57722F18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4A50CA0-5A5D-48FA-A28D-6DED8D8F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9842847-FD8A-4067-8F06-DE9B14E9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8E4FF27-109B-43D4-BC3D-F15DCD78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0CADD54-3DC4-40A0-A548-61FFD6EE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3062D30-56E7-40E1-AC01-07E52004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90124C3-BBDC-4F66-A9BE-5C6D1E37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AD96FF2-87FA-43DB-9EAB-7B584DC6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33F72B4-528A-450A-8FD3-57B104AC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1D245F5-FF55-4DE7-844A-0764B95B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0B9D738-FA11-442C-A998-C07B4690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254B3-3EFC-48AD-A205-33F6B66F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55A1C70-88AC-4E5F-8DA2-81E75FC1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BE484CE-BE63-4472-9584-15CD113B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9EE86D9-2E74-45C5-A03B-E5272F26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3D12F37-BBFD-4AFE-A097-1C1F9886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DB83433-0F92-4D74-9D28-EC2CD6FB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CA9C5A0-FB5F-4602-A329-3C88F2C0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6314500-15FC-438D-B047-A7CBC1BC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A5830D8-1711-4A90-825B-058E04E6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4963232-368E-46CF-A4CC-31556176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5753FE8-4F10-488C-90FE-D2655894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0059D-E3DC-4F48-92E2-5390E1F2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67140D2-8D75-44E8-8FD4-23B935AA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DB217BD-C5BB-4F32-A835-A87F8097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B59A6FB-AE09-4CA7-AC91-FC3DD3FB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7FD2D66-37B8-4CDA-AA63-C982E8B6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F5AE836-04D6-4DB1-B39C-2218FC9B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FAFA25B-983B-4054-89C6-D990B86F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1A92329-ACD2-4925-96E5-9C5882CA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C1D5D4F-8BC0-4D9E-BACC-B447C6D4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98373B1-8B9E-4C42-BD4B-10B00EB3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A2B2030-75DD-4C85-9C71-DC6BB226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98F6D-B5EB-4915-A09A-6F01D853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3A7A230-C953-4835-BF2F-0E355533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78A1453-675D-4A19-861E-5F15208B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326A1E2-6275-43C9-8871-DB64F160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78FC663-8971-4A34-BDF0-1D4D2D47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B611A6C-525F-4845-BFE9-E4B03214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B98D251-C69F-457B-8933-9935EE5E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D781BF0-22D9-4FB1-9E32-00FF7784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ACDB198-95F6-47F4-B70F-98FE8216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DF57F36-0653-4114-BCFF-8DDE6B1A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078CC93-3995-474F-860B-3B9B10A1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220E7-1006-4FAD-87EA-B2C2B242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9746E65-64CB-42B4-9ECB-AF90DB54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0550EAB-F0CD-4EE4-9D4C-76D05C94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F6E4A89-A464-4190-AC39-AA8327A3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9B08FAB-8AA5-4FB4-8DE8-E15EA78B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3F9E92D-867E-40C7-94F5-739D4AEC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4B5704E-6F97-4EAE-BC42-D50F8F38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6628269-7645-431C-AC8F-A5B4D681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283A2AD-357E-4C8F-8206-798D4CCA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487C56A-0904-42CD-B8BF-923DB947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6302000-9622-475B-81FE-7A1A5232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AF11B-E269-435F-959F-3CA129A5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B0457EA-7999-420C-BE52-FDA15095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A009FD7-0821-40E8-99D0-657742DC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3657FF0-B4FB-45E3-831D-09304906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299EE0E-B96B-4888-B30E-DE280560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5C68F69-767B-4AA0-B190-06589284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EBF2CE2-5A42-4827-BFF8-89760F22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6881C5B-A392-48F7-872D-BB634C03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A768033-D08D-4BC8-BF5F-B0168B35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DDA054A-0F83-4BE0-AF05-8326BA53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861D95D-FB74-4AEA-AB14-574BAB7B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5CD30-F9D1-49ED-8A36-3517DF4C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D78EDAB-021C-4A49-AA83-C2789F42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4173BED-C26A-49C9-BD0F-AB3388D0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8BD7B25-3D1B-4738-A7C9-56266654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F8DEFC3-B5CB-47E6-9D9A-F7061876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5192922-5C10-4BDE-BA5C-E4D41392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01F39E4-E995-4E05-9BAB-4789EBD1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6CFB10E-6AB8-4D01-8939-A3CFE164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D9341DF-3C4F-4F42-B7AF-1BE2DB69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A7AE526-8DB3-4666-98DD-86DDC273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C938284-BBBF-444D-8658-530263DA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9EF24-310E-4164-917F-3A6C479A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BA8E005-B718-45B0-9C74-762D984E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80D2E0C-6110-4144-AC90-F767F766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F353DA0-C5E4-4946-B991-877CD029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959A7FF-9F50-4385-B871-1D22CDD5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A623015-75A3-4988-A2F5-E90E02E9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575A865-3062-4684-90B0-B1410EB2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F6C8B85-23AE-427C-A759-9A38CE3F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CBE0365-69D2-4053-9BDF-350C2C7F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3A0B0FB-0863-4634-B40F-5995AF76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E1E04A9-B087-495F-A46A-1CC2A80A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D52B4-0172-4CDB-A7B2-76F4FFE5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C140D7A-BF2D-4AF0-9A45-4694759A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DE1D6A9-0193-481D-BFDA-88066B1C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512AFBB-9919-434D-81CA-1FDFDBF4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34DB5DA-383E-4148-B2F0-C466D35C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140717C-3378-47A4-87F4-488B1FD5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1F5B2B0-932E-42C5-BE90-CE03A40B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3721B23-45C2-44CC-98E6-9A50055E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3612A84-9065-4FA0-8969-E797C4F4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68F852B-6498-4E04-BFF7-CC2E6614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969E672-735B-4FCC-94A3-A4E2912B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4467-9C96-4764-9D97-1772084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85B5C-5519-457B-819B-EAC2B235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D4481A2-E394-49E4-A645-9B951E6B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72D4DE4-FD07-4499-B105-570A0E57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1A0ED6C-4F3C-4381-B985-9FCF6A92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9264513-74AD-4463-BD6E-E4610A04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E2EB641-8A8B-460F-91D8-820977E2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E5A7837-7166-4857-999B-7FE6D932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10CCBD6-BEEF-4EBD-B9A6-E4B13A15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15AC01F-F652-4A80-B5DC-34A4A02A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CEEE592-F19D-46AF-BF13-6F862909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C99140A-D5C5-473A-9461-E5036B9E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A7C4A-1EE1-40B9-8E55-1D8DE0B6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8C615F4-9CE1-44EA-AFC6-14B21850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9C237DF-F714-470E-AA9F-7B2658F0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C2244B0-8618-4ED8-AC32-9CE23DE9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551E2C7-8D31-482A-81B9-7FB2591C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9A281CA-71E5-4932-A8D7-603E3A5B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CC2032B-02E3-403E-8C7A-A553DA4A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AE179D2-2982-4FE5-A153-691EEA24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8EE3866-A30F-448D-BC86-8445FCD6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7A25CC3-498F-49EC-A355-4CB444B0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9DABDEF-7140-4FBE-93A5-9A28082A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9DC87-93B1-4587-8D01-FB11EC93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D570B63-F328-4C52-8092-51B54DFD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BB53AA2-ECFE-44AA-8922-9B19E3E6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DA23BC0-9B71-46D1-AF5F-D3F96073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E48BAB2-ED6E-4AB1-90AC-3C1AD442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73912A4-8F8B-4379-BCB9-AE22A492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81995C0-7544-4FAA-9EAD-6B89D66E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4482E1E-4F06-44FF-865D-5282BFC8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DFA7F91-4978-48C1-AB33-DDDA6334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B2BDE90-3C71-497C-B670-A9693656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F60CD40-C21A-4062-B18C-E626E42E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755E4-03C8-47DE-8DFA-A5346994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B120149-63FB-4FED-9D72-53DF7518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05CAFB3-0B70-4638-A0E9-8BEBEDD1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0BD5F27-AE63-4888-92DB-4507B2DA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7C403-B4B5-4989-9F38-DECC57F5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F21A3-E378-4645-91AD-FD603C13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A90CE-A90F-4129-A8F1-EDB8051F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DD8AE-6D1E-4399-8980-034918B5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8A549-4192-4D2D-887C-FF081296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C6FB9-C316-4E68-8B43-DB12B347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134A-44DC-44DD-8F49-4B6691E8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4462D-3808-41D5-B979-86C23707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3E9A0-DF31-4548-A96E-64E26B2F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44B18-D45E-46BE-AD94-1AE64343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BD6A4-9287-4EA6-95F7-46BB3962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FEC94-EC46-492E-A8CD-CB6B853E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3AC26-3A1C-4B49-B8C7-E133A586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213F6-DB33-43EA-B971-8921C4AB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48CFB-BC84-45AC-B9B7-44A173C9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04181-1D14-438E-A579-1DE11B91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2D691-D443-4798-A37F-8B7AD671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97E1-C1DF-4A4C-8F72-602B74B9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3BCC9-06CA-4501-B01D-FC5939F8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CF914-8F15-4FF9-AE74-87814C5F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F6407-B2FA-40BA-8C3D-F1EA2EE6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53E01-D0F2-44E1-A281-19FFB7D8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3C859-34A2-498B-888E-21873B5F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FE73C-A257-48A9-B2ED-7668E21F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B9048-7CC6-4691-88EB-DD6B49F4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CB12B-26B4-4FAE-B029-B021DD4D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33325-606E-4C9D-A247-56CC4C50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F3C01-CFAA-47C1-AF18-AB7E7600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01.xml"/><Relationship Id="rId6" Type="http://schemas.openxmlformats.org/officeDocument/2006/relationships/slideLayout" Target="../slideLayouts/slideLayout602.xml"/><Relationship Id="rId7" Type="http://schemas.openxmlformats.org/officeDocument/2006/relationships/slideLayout" Target="../slideLayouts/slideLayout603.xml"/><Relationship Id="rId8" Type="http://schemas.openxmlformats.org/officeDocument/2006/relationships/slideLayout" Target="../slideLayouts/slideLayout604.xml"/><Relationship Id="rId9" Type="http://schemas.openxmlformats.org/officeDocument/2006/relationships/slideLayout" Target="../slideLayouts/slideLayout605.xml"/><Relationship Id="rId10" Type="http://schemas.openxmlformats.org/officeDocument/2006/relationships/slideLayout" Target="../slideLayouts/slideLayout606.xml"/><Relationship Id="rId11" Type="http://schemas.openxmlformats.org/officeDocument/2006/relationships/slideLayout" Target="../slideLayouts/slideLayout607.xml"/><Relationship Id="rId12" Type="http://schemas.openxmlformats.org/officeDocument/2006/relationships/slideLayout" Target="../slideLayouts/slideLayout608.xml"/><Relationship Id="rId13" Type="http://schemas.openxmlformats.org/officeDocument/2006/relationships/slideLayout" Target="../slideLayouts/slideLayout609.xml"/><Relationship Id="rId14" Type="http://schemas.openxmlformats.org/officeDocument/2006/relationships/slideLayout" Target="../slideLayouts/slideLayout610.xml"/><Relationship Id="rId15" Type="http://schemas.openxmlformats.org/officeDocument/2006/relationships/slideLayout" Target="../slideLayouts/slideLayout611.xml"/><Relationship Id="rId16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85040" cy="6173640"/>
            <a:chOff x="0" y="0"/>
            <a:chExt cx="918504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64344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478880" y="0"/>
              <a:ext cx="583200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5253840" y="0"/>
              <a:ext cx="39312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9884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48AD-0974-445A-A216-A921E83B4EE8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1580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424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8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4022-BBD6-43B4-87D7-7EFC3F535ED2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9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0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4CC3-327B-45CD-BEE9-848B7666E2D3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EEAA-37C2-4498-9E39-784C2C4ECC90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7E64-D141-4B7C-8BE0-8D1C9713D12D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2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513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5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10EC-CA0B-4704-B670-10EFF639401B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B326-B69B-4331-8E52-85225956EAE4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2"/>
          <p:cNvSpPr/>
          <p:nvPr/>
        </p:nvSpPr>
        <p:spPr>
          <a:xfrm>
            <a:off x="1100160" y="0"/>
            <a:ext cx="8805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7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6D37-5D3B-4634-8292-03511C596CDB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8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9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840B-D2F6-4765-BCBC-3DC63ABF05F5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0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4B00-14B7-45A8-8A12-7BDA15DB70F1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1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2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CE4E-87C8-400E-B052-0E82736FA8BF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Rectangle 12"/>
          <p:cNvGrpSpPr/>
          <p:nvPr/>
        </p:nvGrpSpPr>
        <p:grpSpPr>
          <a:xfrm>
            <a:off x="712800" y="974880"/>
            <a:ext cx="5181480" cy="4797360"/>
            <a:chOff x="712800" y="974880"/>
            <a:chExt cx="5181480" cy="4797360"/>
          </a:xfrm>
        </p:grpSpPr>
        <p:pic>
          <p:nvPicPr>
            <p:cNvPr id="643" name="Rectangle 12" descr=""/>
            <p:cNvPicPr/>
            <p:nvPr/>
          </p:nvPicPr>
          <p:blipFill>
            <a:blip r:embed="rId3"/>
            <a:stretch/>
          </p:blipFill>
          <p:spPr>
            <a:xfrm>
              <a:off x="712800" y="974880"/>
              <a:ext cx="518148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825480" y="1066680"/>
              <a:ext cx="4952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Flowchart: Process 13"/>
          <p:cNvSpPr/>
          <p:nvPr/>
        </p:nvSpPr>
        <p:spPr>
          <a:xfrm rot="19468200">
            <a:off x="430200" y="954000"/>
            <a:ext cx="7430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ce3e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Flowchart: Process 15"/>
          <p:cNvSpPr/>
          <p:nvPr/>
        </p:nvSpPr>
        <p:spPr>
          <a:xfrm flipH="1" rot="2103600">
            <a:off x="5420880" y="936720"/>
            <a:ext cx="703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de9ec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3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4704-D56B-4D28-AE75-7C3F544DBE1E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4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5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4079-1DDA-4A57-B946-3D3EA30DE5B3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0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691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3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A8B2-26F9-4119-8546-14758EE4B5F9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F076-EB43-4869-9E45-F8D7DA5CA633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8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739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1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9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12CC-C233-4B8B-B543-13E4010F7A6C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0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1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A3B9-82F9-46AE-A82D-226DE23150C8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Straight Connector 12"/>
          <p:cNvSpPr/>
          <p:nvPr/>
        </p:nvSpPr>
        <p:spPr>
          <a:xfrm>
            <a:off x="981000" y="4343400"/>
            <a:ext cx="8023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2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8A99-7D57-4AB0-A781-468FC4FD35A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3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4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0358-4636-46D4-85F9-7BAEFE3E93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5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4826-E125-43B0-9315-B481C6CFEAE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6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7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DE26-C25D-4E8A-AE5B-A140ACB9C8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49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CDB6-0DD2-4EB3-928E-3AD7D3D1F492}" type="datetime">
              <a:rPr b="0" lang="en-US" sz="1200" spc="-1" strike="noStrike">
                <a:solidFill>
                  <a:srgbClr val="9caeb3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676E-0A46-4D60-8379-A5CA02BE1B22}" type="slidenum">
              <a:rPr b="0" lang="en-US" sz="1200" spc="-1" strike="noStrike">
                <a:solidFill>
                  <a:srgbClr val="9caeb3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Straight Connector 12"/>
          <p:cNvSpPr/>
          <p:nvPr/>
        </p:nvSpPr>
        <p:spPr>
          <a:xfrm>
            <a:off x="981000" y="4343400"/>
            <a:ext cx="8023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8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F004-4BC1-4F98-AF87-50CBADA5925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59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0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0B50-82A0-465F-8AF8-36AB1D6ADC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1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78D9-FFF1-4DC6-A6A1-8CDC1D1BAE7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2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3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D4BB-D97E-4F15-8F10-E7B8600E0C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4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95C6-7450-4827-94C0-BB99102F4FA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5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6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CA36-DAAE-4F96-AE19-C8DB43B6B9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67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1113-F2F5-4AC4-B105-92057D7C2BD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68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69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A310-C1AF-4570-8400-E65DC11324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70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F4A1-4844-43EF-BED5-F6CB5A2C0E4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71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72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17D2-E5BD-479E-9308-83D0C956DE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10"/>
          <p:cNvSpPr/>
          <p:nvPr/>
        </p:nvSpPr>
        <p:spPr>
          <a:xfrm>
            <a:off x="0" y="0"/>
            <a:ext cx="329076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Rectangle 11"/>
          <p:cNvSpPr/>
          <p:nvPr/>
        </p:nvSpPr>
        <p:spPr>
          <a:xfrm>
            <a:off x="3282840" y="0"/>
            <a:ext cx="525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dt" idx="73"/>
          </p:nvPr>
        </p:nvSpPr>
        <p:spPr>
          <a:xfrm>
            <a:off x="377640" y="6459480"/>
            <a:ext cx="212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FE27-3E2D-4319-BAEC-A1991EF990C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ftr" idx="74"/>
          </p:nvPr>
        </p:nvSpPr>
        <p:spPr>
          <a:xfrm>
            <a:off x="3900600" y="6459480"/>
            <a:ext cx="377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sldNum" idx="75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3FB0-61E5-4CB4-B88D-D22886FCCBEE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10"/>
          <p:cNvSpPr/>
          <p:nvPr/>
        </p:nvSpPr>
        <p:spPr>
          <a:xfrm>
            <a:off x="0" y="4952880"/>
            <a:ext cx="9902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Rectangle 11"/>
          <p:cNvSpPr/>
          <p:nvPr/>
        </p:nvSpPr>
        <p:spPr>
          <a:xfrm>
            <a:off x="0" y="491508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76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66B4-3290-4BB6-A736-41926C4E7C3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77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78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859C-913E-48F5-930D-EAFCB4D644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79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2A10-FA27-4866-92E3-30903C14470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80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81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A495-1E9A-4EFD-BB8B-4FCE0AFCB0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82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8985-17D9-4DD9-95F3-E22CC12AA20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83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84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6C6E-9DF8-4366-B491-F1132AD28B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Straight Connector 12"/>
          <p:cNvSpPr/>
          <p:nvPr/>
        </p:nvSpPr>
        <p:spPr>
          <a:xfrm>
            <a:off x="981000" y="4343400"/>
            <a:ext cx="8023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85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9A8F-56CA-47B3-BB80-D27C4CFCF23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86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87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C0F5-701D-4D26-9A50-862EF755F4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13ED-F17D-40B8-BEB9-760BD689E3B3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06FA-1C2F-498A-B70A-1873DCD0017C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dt" idx="88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CB2F-21F9-43AB-BE67-8232750B718C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ftr" idx="89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sldNum" idx="90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DBB8-3372-4C51-BBAA-6FA292CDB4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Straight Connector 12"/>
          <p:cNvSpPr/>
          <p:nvPr/>
        </p:nvSpPr>
        <p:spPr>
          <a:xfrm>
            <a:off x="981000" y="4343400"/>
            <a:ext cx="8023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1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9253-1531-492C-BB54-A63490BAC08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92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3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935B-5108-4332-802E-34B5EA1088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94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535A-D624-4506-8CD0-1E0CC2B687E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95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96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3EED-B34A-411E-ABDF-0D6543AC0B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97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54AC-1556-4019-A42C-0CF6A361D2D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98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99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CB99-C649-4652-97E4-22CB316431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 type="dt" idx="100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1EC8-2952-448D-B027-7DF3E6C85A9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 type="ftr" idx="101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 type="sldNum" idx="102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E28C-CE2E-467A-B5F1-83A8CA12AC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 type="dt" idx="103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E5BF-C5FA-443F-AE8C-07A5E49AC79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 type="ftr" idx="104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 type="sldNum" idx="105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5405-80B1-4C49-AF86-46C77BA95D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Rectangle 10"/>
          <p:cNvSpPr/>
          <p:nvPr/>
        </p:nvSpPr>
        <p:spPr>
          <a:xfrm>
            <a:off x="0" y="0"/>
            <a:ext cx="329076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Rectangle 11"/>
          <p:cNvSpPr/>
          <p:nvPr/>
        </p:nvSpPr>
        <p:spPr>
          <a:xfrm>
            <a:off x="3282840" y="0"/>
            <a:ext cx="525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 type="dt" idx="106"/>
          </p:nvPr>
        </p:nvSpPr>
        <p:spPr>
          <a:xfrm>
            <a:off x="377640" y="6459480"/>
            <a:ext cx="212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628E-C6FE-4D43-BB0D-665C6C30EE58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 type="ftr" idx="107"/>
          </p:nvPr>
        </p:nvSpPr>
        <p:spPr>
          <a:xfrm>
            <a:off x="3900600" y="6459480"/>
            <a:ext cx="377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 type="sldNum" idx="108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87C0-6A8B-4473-BE38-E989EC16BF46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10"/>
          <p:cNvSpPr/>
          <p:nvPr/>
        </p:nvSpPr>
        <p:spPr>
          <a:xfrm>
            <a:off x="0" y="4952880"/>
            <a:ext cx="9902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Rectangle 11"/>
          <p:cNvSpPr/>
          <p:nvPr/>
        </p:nvSpPr>
        <p:spPr>
          <a:xfrm>
            <a:off x="0" y="491508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 type="dt" idx="109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A7C8-3B0D-417C-90F7-88A65DB8B18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 type="ftr" idx="110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 type="sldNum" idx="111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3D65-F9F4-4E72-97A5-0A1892B3B0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 type="dt" idx="112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4E43-41D3-48C2-9011-6CAAC2D51045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 type="ftr" idx="113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 type="sldNum" idx="114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FF6B-F184-42B3-8DE8-FB864149A0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 type="dt" idx="115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3E60-354A-40EB-8103-2A8DD7FFD71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 type="ftr" idx="116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 type="sldNum" idx="117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F1F9-6F0E-49C5-8999-36B8794B60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F10F-4DFF-4395-A8C5-59B50E4083EA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F56A-A88A-434E-A043-0D73D2871A3C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Straight Connector 12"/>
          <p:cNvSpPr/>
          <p:nvPr/>
        </p:nvSpPr>
        <p:spPr>
          <a:xfrm>
            <a:off x="981000" y="4343400"/>
            <a:ext cx="8023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 type="dt" idx="118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4C5E-BD38-4A7E-B3BD-D27B0950D1F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 type="ftr" idx="119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 type="sldNum" idx="120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96AA-DCC5-4D99-947F-64EFBBD63A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 type="dt" idx="121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DB18-1293-4BFF-BF76-A35756EE7B3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 type="ftr" idx="122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 type="sldNum" idx="123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76CB-52ED-4226-AC0C-BE5FE3EB9B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Straight Connector 12"/>
          <p:cNvSpPr/>
          <p:nvPr/>
        </p:nvSpPr>
        <p:spPr>
          <a:xfrm>
            <a:off x="981000" y="4343400"/>
            <a:ext cx="8023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 type="dt" idx="124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0DD8-8297-49BA-95AA-02D7944CA01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 type="ftr" idx="125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 type="sldNum" idx="126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D0FF-34FB-4483-94B0-221CE0ED6F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 type="dt" idx="127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2DA0-C0F8-46B6-851D-CD1AE957AEA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 type="ftr" idx="128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 type="sldNum" idx="129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2BF0-C48D-4D76-97E3-67C21D8AA5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 type="dt" idx="130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514D-8E36-420F-8965-034A40C68D7C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 type="ftr" idx="131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 type="sldNum" idx="132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2FD1-F477-4EA5-8138-99ABC76F2E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dt" idx="133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6C3B-9F33-41A7-9319-2CFC3C329E4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 type="ftr" idx="134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 type="sldNum" idx="135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3636-B30C-428E-85BA-91DB4A9C79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 type="dt" idx="136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07A1-D209-4C0C-B7C9-46908B5E3D08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 type="ftr" idx="137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 type="sldNum" idx="138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EFFC-5952-41D6-8563-B1F353B7FC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Rectangle 10"/>
          <p:cNvSpPr/>
          <p:nvPr/>
        </p:nvSpPr>
        <p:spPr>
          <a:xfrm>
            <a:off x="0" y="0"/>
            <a:ext cx="329076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Rectangle 11"/>
          <p:cNvSpPr/>
          <p:nvPr/>
        </p:nvSpPr>
        <p:spPr>
          <a:xfrm>
            <a:off x="3282840" y="0"/>
            <a:ext cx="525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39"/>
          </p:nvPr>
        </p:nvSpPr>
        <p:spPr>
          <a:xfrm>
            <a:off x="377640" y="6459480"/>
            <a:ext cx="212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975B-1E95-4CF0-8E38-50636348030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40"/>
          </p:nvPr>
        </p:nvSpPr>
        <p:spPr>
          <a:xfrm>
            <a:off x="3900600" y="6459480"/>
            <a:ext cx="377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41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3881-894F-47F1-A5EA-E64F87F47F94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Rectangle 10"/>
          <p:cNvSpPr/>
          <p:nvPr/>
        </p:nvSpPr>
        <p:spPr>
          <a:xfrm>
            <a:off x="0" y="4952880"/>
            <a:ext cx="9902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Rectangle 11"/>
          <p:cNvSpPr/>
          <p:nvPr/>
        </p:nvSpPr>
        <p:spPr>
          <a:xfrm>
            <a:off x="0" y="491508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dt" idx="142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B5EB-EA7A-4787-BF01-A2B8A0C31DD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 type="ftr" idx="143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PlaceHolder 5"/>
          <p:cNvSpPr>
            <a:spLocks noGrp="1"/>
          </p:cNvSpPr>
          <p:nvPr>
            <p:ph type="sldNum" idx="144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C5E6-1438-419A-A250-1C4BF3142A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dt" idx="145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0DA5-5327-4B57-9653-7E9E2B2419B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 type="ftr" idx="146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 type="sldNum" idx="147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1C33-A052-42DB-836A-65BA20F87E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B286-76BC-449C-979A-A614EADD1A83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35A8-2608-4AE4-A88F-8B2383EAC932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 type="dt" idx="148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0044-35D8-4E6D-927B-A1182338DD3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 type="ftr" idx="149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PlaceHolder 5"/>
          <p:cNvSpPr>
            <a:spLocks noGrp="1"/>
          </p:cNvSpPr>
          <p:nvPr>
            <p:ph type="sldNum" idx="150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5FE5-1359-4359-A955-DBF9FF1336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6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2227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8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9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1" name="Oval 12"/>
          <p:cNvGrpSpPr/>
          <p:nvPr/>
        </p:nvGrpSpPr>
        <p:grpSpPr>
          <a:xfrm>
            <a:off x="1000080" y="1414440"/>
            <a:ext cx="231840" cy="212760"/>
            <a:chOff x="1000080" y="1414440"/>
            <a:chExt cx="231840" cy="212760"/>
          </a:xfrm>
        </p:grpSpPr>
        <p:pic>
          <p:nvPicPr>
            <p:cNvPr id="2232" name="Oval 12" descr=""/>
            <p:cNvPicPr/>
            <p:nvPr/>
          </p:nvPicPr>
          <p:blipFill>
            <a:blip r:embed="rId4"/>
            <a:stretch/>
          </p:blipFill>
          <p:spPr>
            <a:xfrm>
              <a:off x="1000080" y="1414440"/>
              <a:ext cx="2318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3" name=""/>
            <p:cNvSpPr/>
            <p:nvPr/>
          </p:nvSpPr>
          <p:spPr>
            <a:xfrm>
              <a:off x="1031760" y="1444680"/>
              <a:ext cx="1605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4" name="Oval 13"/>
          <p:cNvSpPr/>
          <p:nvPr/>
        </p:nvSpPr>
        <p:spPr>
          <a:xfrm>
            <a:off x="1254240" y="1344600"/>
            <a:ext cx="68040" cy="65160"/>
          </a:xfrm>
          <a:prstGeom prst="ellipse">
            <a:avLst/>
          </a:prstGeom>
          <a:noFill/>
          <a:ln cap="rnd" w="12600">
            <a:solidFill>
              <a:srgbClr val="646c8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 type="dt" idx="151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096A-B5FE-4C40-96FC-1AE65346EEB8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 type="ftr" idx="152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 type="sldNum" idx="153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8783-A0BF-4FD4-B3F0-9E5B547D6C8E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5"/>
    <p:sldLayoutId id="2147484300" r:id="rId6"/>
    <p:sldLayoutId id="2147484301" r:id="rId7"/>
    <p:sldLayoutId id="2147484302" r:id="rId8"/>
    <p:sldLayoutId id="2147484303" r:id="rId9"/>
    <p:sldLayoutId id="2147484304" r:id="rId10"/>
    <p:sldLayoutId id="2147484305" r:id="rId11"/>
    <p:sldLayoutId id="2147484306" r:id="rId12"/>
    <p:sldLayoutId id="2147484307" r:id="rId13"/>
    <p:sldLayoutId id="2147484308" r:id="rId14"/>
    <p:sldLayoutId id="2147484309" r:id="rId15"/>
    <p:sldLayoutId id="2147484310" r:id="rId16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8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2279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0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1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 type="dt" idx="154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4023-DCBB-4937-A78A-CB3C83AEDB7A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 type="ftr" idx="155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 type="sldNum" idx="156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BA7F-C814-4759-B7DC-90E5DC042BB1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Rectangle 12"/>
          <p:cNvSpPr/>
          <p:nvPr/>
        </p:nvSpPr>
        <p:spPr>
          <a:xfrm>
            <a:off x="2473200" y="0"/>
            <a:ext cx="7429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Rectangle 13"/>
          <p:cNvSpPr/>
          <p:nvPr/>
        </p:nvSpPr>
        <p:spPr>
          <a:xfrm>
            <a:off x="2476440" y="0"/>
            <a:ext cx="82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6" name="Oval 15"/>
          <p:cNvGrpSpPr/>
          <p:nvPr/>
        </p:nvGrpSpPr>
        <p:grpSpPr>
          <a:xfrm>
            <a:off x="2352600" y="2816280"/>
            <a:ext cx="231840" cy="212760"/>
            <a:chOff x="2352600" y="2816280"/>
            <a:chExt cx="231840" cy="212760"/>
          </a:xfrm>
        </p:grpSpPr>
        <p:pic>
          <p:nvPicPr>
            <p:cNvPr id="2327" name="Oval 15" descr=""/>
            <p:cNvPicPr/>
            <p:nvPr/>
          </p:nvPicPr>
          <p:blipFill>
            <a:blip r:embed="rId3"/>
            <a:stretch/>
          </p:blipFill>
          <p:spPr>
            <a:xfrm>
              <a:off x="2352600" y="2816280"/>
              <a:ext cx="2318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8" name=""/>
            <p:cNvSpPr/>
            <p:nvPr/>
          </p:nvSpPr>
          <p:spPr>
            <a:xfrm>
              <a:off x="2386080" y="2844720"/>
              <a:ext cx="162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9" name="Oval 16"/>
          <p:cNvSpPr/>
          <p:nvPr/>
        </p:nvSpPr>
        <p:spPr>
          <a:xfrm>
            <a:off x="2608200" y="2746440"/>
            <a:ext cx="69840" cy="63360"/>
          </a:xfrm>
          <a:prstGeom prst="ellipse">
            <a:avLst/>
          </a:prstGeom>
          <a:noFill/>
          <a:ln cap="rnd" w="12600">
            <a:solidFill>
              <a:srgbClr val="646c8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 type="dt" idx="157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1FE8-3741-484A-AE06-CF9432588D84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 type="ftr" idx="158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 type="sldNum" idx="159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3D71-6D54-4505-A697-1822ADF1CE52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73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2374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5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6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60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DF8C-8B90-4441-B6ED-417E6BAF4299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61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62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111A-AA7E-4C78-987D-9F04D10F1B83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63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EFC8-0B84-47A0-A904-ADEFAB09F96B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64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65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152F-0D85-4EC7-949A-5C86566C334B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2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2463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4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5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 type="dt" idx="166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9307-F7C1-4CAC-A05B-3F748B152D0A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 type="ftr" idx="167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PlaceHolder 5"/>
          <p:cNvSpPr>
            <a:spLocks noGrp="1"/>
          </p:cNvSpPr>
          <p:nvPr>
            <p:ph type="sldNum" idx="168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2DC1-0C00-4DD3-8E09-3007A97C132E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12"/>
          <p:cNvSpPr/>
          <p:nvPr/>
        </p:nvSpPr>
        <p:spPr>
          <a:xfrm>
            <a:off x="1100160" y="0"/>
            <a:ext cx="8805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Rectangle 13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 type="dt" idx="169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08AE-B3EF-48E8-814A-CFBFB2968ECA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 type="ftr" idx="170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PlaceHolder 5"/>
          <p:cNvSpPr>
            <a:spLocks noGrp="1"/>
          </p:cNvSpPr>
          <p:nvPr>
            <p:ph type="sldNum" idx="171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2357-2EC8-42D7-B32E-B80707887EAB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dt" idx="172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59CC-E34E-41EF-B171-8E45A0F06ACA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 type="ftr" idx="173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PlaceHolder 5"/>
          <p:cNvSpPr>
            <a:spLocks noGrp="1"/>
          </p:cNvSpPr>
          <p:nvPr>
            <p:ph type="sldNum" idx="174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6462-272E-4018-B9AF-91BDD31E057D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2" name="Rectangle 12"/>
          <p:cNvGrpSpPr/>
          <p:nvPr/>
        </p:nvGrpSpPr>
        <p:grpSpPr>
          <a:xfrm>
            <a:off x="712800" y="974880"/>
            <a:ext cx="5181480" cy="4797360"/>
            <a:chOff x="712800" y="974880"/>
            <a:chExt cx="5181480" cy="4797360"/>
          </a:xfrm>
        </p:grpSpPr>
        <p:pic>
          <p:nvPicPr>
            <p:cNvPr id="2593" name="Rectangle 12" descr=""/>
            <p:cNvPicPr/>
            <p:nvPr/>
          </p:nvPicPr>
          <p:blipFill>
            <a:blip r:embed="rId3"/>
            <a:stretch/>
          </p:blipFill>
          <p:spPr>
            <a:xfrm>
              <a:off x="712800" y="974880"/>
              <a:ext cx="518148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4" name=""/>
            <p:cNvSpPr/>
            <p:nvPr/>
          </p:nvSpPr>
          <p:spPr>
            <a:xfrm>
              <a:off x="825480" y="1066680"/>
              <a:ext cx="4952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5" name="Flowchart: Process 13"/>
          <p:cNvSpPr/>
          <p:nvPr/>
        </p:nvSpPr>
        <p:spPr>
          <a:xfrm rot="19468200">
            <a:off x="430200" y="954000"/>
            <a:ext cx="7430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ce3e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Flowchart: Process 15"/>
          <p:cNvSpPr/>
          <p:nvPr/>
        </p:nvSpPr>
        <p:spPr>
          <a:xfrm flipH="1" rot="2103600">
            <a:off x="5420880" y="936720"/>
            <a:ext cx="703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de9ec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 type="dt" idx="175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B58E-362B-48D3-96DD-1EFA240FA3B1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 type="ftr" idx="176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PlaceHolder 5"/>
          <p:cNvSpPr>
            <a:spLocks noGrp="1"/>
          </p:cNvSpPr>
          <p:nvPr>
            <p:ph type="sldNum" idx="177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8676-745D-4505-8998-2AD198FA2542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229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3894-018A-4CE6-ADAB-EBDD76ACDE67}" type="datetime">
              <a:rPr b="0" lang="en-US" sz="1200" spc="-1" strike="noStrike">
                <a:solidFill>
                  <a:srgbClr val="9caeb3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1C0E-2608-423F-9FE7-6489E60D2D9E}" type="slidenum">
              <a:rPr b="0" lang="en-US" sz="1200" spc="-1" strike="noStrike">
                <a:solidFill>
                  <a:srgbClr val="9caeb3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0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2641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2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3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7" name="PlaceHolder 3"/>
          <p:cNvSpPr>
            <a:spLocks noGrp="1"/>
          </p:cNvSpPr>
          <p:nvPr>
            <p:ph type="dt" idx="178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23B3-5C04-43EE-8872-D46A01EA9CB4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4"/>
          <p:cNvSpPr>
            <a:spLocks noGrp="1"/>
          </p:cNvSpPr>
          <p:nvPr>
            <p:ph type="ftr" idx="179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PlaceHolder 5"/>
          <p:cNvSpPr>
            <a:spLocks noGrp="1"/>
          </p:cNvSpPr>
          <p:nvPr>
            <p:ph type="sldNum" idx="180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A448-C354-4AB3-B674-97AC2AFD375D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7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8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2689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0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1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 type="dt" idx="181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4C88-374A-4773-8914-E9642E79EACE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 type="ftr" idx="182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PlaceHolder 5"/>
          <p:cNvSpPr>
            <a:spLocks noGrp="1"/>
          </p:cNvSpPr>
          <p:nvPr>
            <p:ph type="sldNum" idx="183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F916-6714-498C-9C72-406C9F28607A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277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Oval 12"/>
          <p:cNvGrpSpPr/>
          <p:nvPr/>
        </p:nvGrpSpPr>
        <p:grpSpPr>
          <a:xfrm>
            <a:off x="1000080" y="1414440"/>
            <a:ext cx="231840" cy="212760"/>
            <a:chOff x="1000080" y="1414440"/>
            <a:chExt cx="231840" cy="212760"/>
          </a:xfrm>
        </p:grpSpPr>
        <p:pic>
          <p:nvPicPr>
            <p:cNvPr id="282" name="Oval 12" descr=""/>
            <p:cNvPicPr/>
            <p:nvPr/>
          </p:nvPicPr>
          <p:blipFill>
            <a:blip r:embed="rId4"/>
            <a:stretch/>
          </p:blipFill>
          <p:spPr>
            <a:xfrm>
              <a:off x="1000080" y="1414440"/>
              <a:ext cx="2318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031760" y="1444680"/>
              <a:ext cx="1605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Oval 13"/>
          <p:cNvSpPr/>
          <p:nvPr/>
        </p:nvSpPr>
        <p:spPr>
          <a:xfrm>
            <a:off x="1254240" y="1344600"/>
            <a:ext cx="68040" cy="65160"/>
          </a:xfrm>
          <a:prstGeom prst="ellipse">
            <a:avLst/>
          </a:prstGeom>
          <a:noFill/>
          <a:ln cap="rnd" w="12600">
            <a:solidFill>
              <a:srgbClr val="646c8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AAED-20D6-43FE-B4C3-377950C4C22A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1819-A91F-4C1E-AF63-E4B00BF57316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329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CEDE-6B26-4015-8CD0-1BC1718C7BB3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0415-675B-4620-86D6-0D057A4D2AF6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2"/>
          <p:cNvSpPr/>
          <p:nvPr/>
        </p:nvSpPr>
        <p:spPr>
          <a:xfrm>
            <a:off x="2473200" y="0"/>
            <a:ext cx="7429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13"/>
          <p:cNvSpPr/>
          <p:nvPr/>
        </p:nvSpPr>
        <p:spPr>
          <a:xfrm>
            <a:off x="2476440" y="0"/>
            <a:ext cx="82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Oval 15"/>
          <p:cNvGrpSpPr/>
          <p:nvPr/>
        </p:nvGrpSpPr>
        <p:grpSpPr>
          <a:xfrm>
            <a:off x="2352600" y="2816280"/>
            <a:ext cx="231840" cy="212760"/>
            <a:chOff x="2352600" y="2816280"/>
            <a:chExt cx="231840" cy="212760"/>
          </a:xfrm>
        </p:grpSpPr>
        <p:pic>
          <p:nvPicPr>
            <p:cNvPr id="377" name="Oval 15" descr=""/>
            <p:cNvPicPr/>
            <p:nvPr/>
          </p:nvPicPr>
          <p:blipFill>
            <a:blip r:embed="rId3"/>
            <a:stretch/>
          </p:blipFill>
          <p:spPr>
            <a:xfrm>
              <a:off x="2352600" y="2816280"/>
              <a:ext cx="2318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386080" y="2844720"/>
              <a:ext cx="162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9" name="Oval 16"/>
          <p:cNvSpPr/>
          <p:nvPr/>
        </p:nvSpPr>
        <p:spPr>
          <a:xfrm>
            <a:off x="2608200" y="2746440"/>
            <a:ext cx="69840" cy="63360"/>
          </a:xfrm>
          <a:prstGeom prst="ellipse">
            <a:avLst/>
          </a:prstGeom>
          <a:noFill/>
          <a:ln cap="rnd" w="12600">
            <a:solidFill>
              <a:srgbClr val="646c8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8010-3FA3-495A-A83C-49B3A0EDB948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F4F0-2365-4C06-9F7B-5FF02CD8336C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investigations_hotline@worldbank.org" TargetMode="External"/><Relationship Id="rId2" Type="http://schemas.openxmlformats.org/officeDocument/2006/relationships/hyperlink" Target="http://www.worldbank.org/integrity" TargetMode="External"/><Relationship Id="rId3" Type="http://schemas.openxmlformats.org/officeDocument/2006/relationships/hyperlink" Target="http://wbln0018.worldbank.org/acfiu/acfiuweb.nsf/(intlinks)/CTON-5PKVJA?opendocument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documents.worldbank.org/" TargetMode="External"/><Relationship Id="rId2" Type="http://schemas.openxmlformats.org/officeDocument/2006/relationships/hyperlink" Target="http://documents.worldbank.org/curated/en/docadvancesearch" TargetMode="External"/><Relationship Id="rId3" Type="http://schemas.openxmlformats.org/officeDocument/2006/relationships/hyperlink" Target="http://documents.worldbank.org/curated/en/docadvancesearch" TargetMode="External"/><Relationship Id="rId4" Type="http://schemas.openxmlformats.org/officeDocument/2006/relationships/slideLayout" Target="../slideLayouts/slideLayout6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Rectangle 25"/>
          <p:cNvSpPr/>
          <p:nvPr/>
        </p:nvSpPr>
        <p:spPr>
          <a:xfrm>
            <a:off x="863640" y="228600"/>
            <a:ext cx="9042480" cy="6629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Text Box 3"/>
          <p:cNvSpPr/>
          <p:nvPr/>
        </p:nvSpPr>
        <p:spPr>
          <a:xfrm>
            <a:off x="1055520" y="72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Rectangle 18"/>
          <p:cNvSpPr/>
          <p:nvPr/>
        </p:nvSpPr>
        <p:spPr>
          <a:xfrm>
            <a:off x="847800" y="2120760"/>
            <a:ext cx="82076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TREACH SEMINAR FOR NEP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usiness Opportuniti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World Bank funded Proj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0" name="Picture 26" descr=""/>
          <p:cNvPicPr/>
          <p:nvPr/>
        </p:nvPicPr>
        <p:blipFill>
          <a:blip r:embed="rId1"/>
          <a:stretch/>
        </p:blipFill>
        <p:spPr>
          <a:xfrm>
            <a:off x="4672080" y="4578480"/>
            <a:ext cx="557280" cy="582480"/>
          </a:xfrm>
          <a:prstGeom prst="rect">
            <a:avLst/>
          </a:prstGeom>
          <a:ln w="0">
            <a:noFill/>
          </a:ln>
        </p:spPr>
      </p:pic>
      <p:sp>
        <p:nvSpPr>
          <p:cNvPr id="2741" name="Rectangle 27"/>
          <p:cNvSpPr/>
          <p:nvPr/>
        </p:nvSpPr>
        <p:spPr>
          <a:xfrm>
            <a:off x="4297680" y="549756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World Ba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2" name="Rectangle 28"/>
          <p:cNvSpPr/>
          <p:nvPr/>
        </p:nvSpPr>
        <p:spPr>
          <a:xfrm>
            <a:off x="3411720" y="611280"/>
            <a:ext cx="33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Yangon - October 27, 20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Key Documents to Guide Procurement under the Projec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nancing Agreement signed between Government and World Ban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ject Appraisal Document (PAD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orld Bank Procurement and Consultant Guidelin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ject Operations Manua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Government internal processes and procedures </a:t>
            </a:r>
            <a:r>
              <a:rPr b="1" lang="en-US" sz="2000" spc="-1" strike="noStrike" u="sng">
                <a:solidFill>
                  <a:srgbClr val="404040"/>
                </a:solidFill>
                <a:uFillTx/>
                <a:latin typeface="Calibri"/>
              </a:rPr>
              <a:t>agreed with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Bank for the implementation of the  project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greed Procurement Pla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2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972D-88E6-419D-AB76-7FF0824E75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404040"/>
                </a:solidFill>
                <a:latin typeface="Calibri Light"/>
              </a:rPr>
              <a:t> </a:t>
            </a:r>
            <a:r>
              <a:rPr b="0" lang="en-GB" sz="3800" spc="-1" strike="noStrike">
                <a:solidFill>
                  <a:srgbClr val="404040"/>
                </a:solidFill>
                <a:latin typeface="Calibri Light"/>
              </a:rPr>
              <a:t>Bank Policy objectives in Procurement</a:t>
            </a:r>
            <a:endParaRPr b="0" lang="en-US" sz="3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4" name=""/>
          <p:cNvSpPr txBox="1"/>
          <p:nvPr/>
        </p:nvSpPr>
        <p:spPr>
          <a:xfrm>
            <a:off x="892080" y="187956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NEED FOR ECONOMY AND EFFICIENCY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GB" sz="1900" spc="-1" strike="noStrike">
                <a:solidFill>
                  <a:srgbClr val="404040"/>
                </a:solidFill>
                <a:latin typeface="Calibri"/>
              </a:rPr>
              <a:t>Value for money and method should commensurate with speed and value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GIVE ELIGIBLE BIDDERS OPPORTUNITY TO BI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</a:rPr>
              <a:t>Advertise widely locally in at least two newspapers of wide national circulation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ENCOURAGE DEVELOPMENT OF LOCAL INDUSTRY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</a:rPr>
              <a:t>Provide domestic preference of 15% in evaluation to local manufacturers and 7.5% for local contractors under International Competitive Bidding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TRANSPARENCY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Evaluation by committee, advertise widely and publish award results. Bidders free to complain, prepare and publish procurement plan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5" name="Slide Number Placeholder 5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7EAA61CB-C4CE-48B0-BE43-BB9BFCA5BC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Date Placeholder 4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7" name="Slide Number Placeholder 5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4EA1-1E20-48C4-B718-1323A1D6DEEF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Footer Placeholder 6"/>
          <p:cNvSpPr/>
          <p:nvPr/>
        </p:nvSpPr>
        <p:spPr>
          <a:xfrm>
            <a:off x="3116160" y="6400800"/>
            <a:ext cx="46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Rectangle 3"/>
          <p:cNvSpPr/>
          <p:nvPr/>
        </p:nvSpPr>
        <p:spPr>
          <a:xfrm>
            <a:off x="1593720" y="1790640"/>
            <a:ext cx="2700360" cy="434340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824040" y="958680"/>
            <a:ext cx="83390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orld Bank Procurement  Guidelin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1606680" y="2030400"/>
            <a:ext cx="263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IDELIN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Arial"/>
            </a:endParaRPr>
          </a:p>
          <a:p>
            <a:pPr indent="0" algn="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urement of goods, works and non-consulting services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 algn="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 algn="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der IBRD Loans and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 algn="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DA Credits &amp; Grants by World Bank Borrowers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2011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sed July 2014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2" name="Line 7"/>
          <p:cNvSpPr/>
          <p:nvPr/>
        </p:nvSpPr>
        <p:spPr>
          <a:xfrm>
            <a:off x="1587600" y="2475000"/>
            <a:ext cx="271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Rectangle 9"/>
          <p:cNvSpPr/>
          <p:nvPr/>
        </p:nvSpPr>
        <p:spPr>
          <a:xfrm>
            <a:off x="5479920" y="1790640"/>
            <a:ext cx="2675160" cy="4332240"/>
          </a:xfrm>
          <a:prstGeom prst="rect">
            <a:avLst/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Rectangle 10"/>
          <p:cNvSpPr/>
          <p:nvPr/>
        </p:nvSpPr>
        <p:spPr>
          <a:xfrm>
            <a:off x="5492880" y="2019240"/>
            <a:ext cx="2601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lection and Employ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 Consulta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der IBRD Loans 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DA Credits &amp; Grant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 World Bank Borrow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20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sed July 20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Line 11"/>
          <p:cNvSpPr/>
          <p:nvPr/>
        </p:nvSpPr>
        <p:spPr>
          <a:xfrm>
            <a:off x="5473800" y="2463840"/>
            <a:ext cx="266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6" name="Picture 12" descr="slogoani"/>
          <p:cNvPicPr/>
          <p:nvPr/>
        </p:nvPicPr>
        <p:blipFill>
          <a:blip r:embed="rId1"/>
          <a:stretch/>
        </p:blipFill>
        <p:spPr>
          <a:xfrm>
            <a:off x="182520" y="0"/>
            <a:ext cx="1182600" cy="99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 Bidding Documen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8" name=""/>
          <p:cNvSpPr txBox="1"/>
          <p:nvPr/>
        </p:nvSpPr>
        <p:spPr>
          <a:xfrm>
            <a:off x="742680" y="1630440"/>
            <a:ext cx="842004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idding documents include draft contract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 contrast to the procurement guidelines, SBDs set out the rules for a particular tender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Obtain  and Read carefully the Bidding Document issued by the Implementing Agency 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9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0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67CD-5FB6-4F5F-928E-796767601D59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tructure of the Standard Bidding Documents (SBD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883" name=""/>
          <p:cNvGraphicFramePr/>
          <p:nvPr/>
        </p:nvGraphicFramePr>
        <p:xfrm>
          <a:off x="320760" y="1262160"/>
          <a:ext cx="9279000" cy="5106960"/>
        </p:xfrm>
        <a:graphic>
          <a:graphicData uri="http://schemas.openxmlformats.org/drawingml/2006/table">
            <a:tbl>
              <a:tblPr/>
              <a:tblGrid>
                <a:gridCol w="2958840"/>
                <a:gridCol w="4305600"/>
                <a:gridCol w="20145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TO BE USED UNCHANG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7b4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TO BE CUSTOMIZED BY PURCHAS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7b4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TO BE FILLED OUT BY BIDD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7b49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.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 Instructions to Bidders (IT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I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. Bid Data Sheet (BD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f"/>
                    </a:solidFill>
                  </a:tcPr>
                </a:tc>
              </a:tr>
              <a:tr h="2439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II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. Evaluation and Qualification Crite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V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.  Eligible 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VI. 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Employer’s Require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V.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 Bidding Form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9"/>
                    </a:solidFill>
                  </a:tcPr>
                </a:tc>
              </a:tr>
              <a:tr h="155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VII.  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General Conditions of Contract (GC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VIII. 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Particular Conditions of Contract (SC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X.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 Contract Form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f"/>
                    </a:solidFill>
                  </a:tcPr>
                </a:tc>
              </a:tr>
            </a:tbl>
          </a:graphicData>
        </a:graphic>
      </p:graphicFrame>
      <p:sp>
        <p:nvSpPr>
          <p:cNvPr id="2884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C4AF-AEA9-49D9-B8F2-5E65CB5B5E52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6" name="Footer Placeholder 5"/>
          <p:cNvSpPr/>
          <p:nvPr/>
        </p:nvSpPr>
        <p:spPr>
          <a:xfrm>
            <a:off x="3116160" y="640080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742680" y="-30528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idding  and Contract form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8" name=""/>
          <p:cNvSpPr txBox="1"/>
          <p:nvPr/>
        </p:nvSpPr>
        <p:spPr>
          <a:xfrm>
            <a:off x="396720" y="88416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gency FB"/>
              </a:rPr>
              <a:t>Bidding Form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Letter of Bid</a:t>
            </a: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	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Schedules of Rates and Pric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Technical Proposa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Bidder Information Shee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Party to JVA Information Shee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Historical Contract Non-Performan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Current Contract Commitments/Works in Progres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Financial Situ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Experience – General &amp; Specifi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Forms of Bid Security (Bank Guarantee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Manufacturer’s Authoriz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46960" indent="-246960"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46960" indent="-246960"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5867280" y="960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gency FB"/>
              </a:rPr>
              <a:t>Contract Forms </a:t>
            </a:r>
            <a:r>
              <a:rPr b="0" lang="en-US" sz="2800" spc="-1" strike="noStrike">
                <a:solidFill>
                  <a:srgbClr val="fafd00"/>
                </a:solidFill>
                <a:latin typeface="Agency FB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Once completed, will form part of the Contract.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Performance Security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Advance Payment Securit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0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1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8895-ACE9-486F-8F69-D991FCEF2BA8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2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874440" y="3522600"/>
            <a:ext cx="8420040" cy="13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PLAY BY THE RULE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1010880" y="1976040"/>
            <a:ext cx="8420040" cy="15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art II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5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6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8678-7826-4CF2-9D70-6B3BF9852F78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7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742680" y="198000"/>
            <a:ext cx="8420040" cy="77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mportant Provisions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9" name=""/>
          <p:cNvSpPr txBox="1"/>
          <p:nvPr/>
        </p:nvSpPr>
        <p:spPr>
          <a:xfrm>
            <a:off x="715680" y="990360"/>
            <a:ext cx="8931240" cy="52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igibility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ITB 4)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ou are not allowed to participate if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You are in a Conflict of Interest situation with regards to this particular tende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Your are a State Owned Enterprise that is not  legally, financially autonomous and does not operate under commercial law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By compliance with a UN Security Council Sanctions, Borrower’s country prohibits any import of goods from, or payments to, your country, person, or entity and/or prohibits payments to your firm or for goods your are offerin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You are under sanction by the Bank or other MDBs relating to fraud and corrup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If you are not fulfilling legal requirements as required by the country e.g. paying tax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0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A4AF-BBE8-4929-AD6D-04EF9ED2ACD9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circumstances would be regarded as conflict of interes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4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Providing goods resulting from consulting services provided by yourself or affiliat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ubmitting more than one bid as individual or JV. Does not include subcontractor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lose family or business relationship with staff of implementing agenc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irectly or indirectly controls or is controlled  by another bidde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Receives or has received subsidy from another bidde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Has the same legal representative as another bidde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5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6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1493-02D0-4510-9B86-F9E3624C479C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tate owned enterprise may participate under following circumstances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9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an demonstrate that they are legally, financial and managerially autonomous (Submit all legal documents and Bank will assess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Not bidding for a contract under its supervising ministr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 agreement with the Bank if works are scattered and remote  such that it is not feasible to obtain competitive bid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 areas of  conflict or strife where it is not practical for private sector to operate  effectivel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0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358F-4471-4646-BD57-273BD96B3692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Footer Placeholder 3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4" name="Rectangle 2"/>
          <p:cNvSpPr/>
          <p:nvPr/>
        </p:nvSpPr>
        <p:spPr>
          <a:xfrm>
            <a:off x="709560" y="46080"/>
            <a:ext cx="8420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5" name="Rectangle 3"/>
          <p:cNvSpPr/>
          <p:nvPr/>
        </p:nvSpPr>
        <p:spPr>
          <a:xfrm>
            <a:off x="755640" y="324000"/>
            <a:ext cx="8420040" cy="95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Objective of the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Rectangle 4"/>
          <p:cNvSpPr/>
          <p:nvPr/>
        </p:nvSpPr>
        <p:spPr>
          <a:xfrm>
            <a:off x="1816200" y="1981080"/>
            <a:ext cx="6273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Rectangle 5"/>
          <p:cNvSpPr/>
          <p:nvPr/>
        </p:nvSpPr>
        <p:spPr>
          <a:xfrm>
            <a:off x="2093760" y="1279440"/>
            <a:ext cx="726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should I know about WB fun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&amp; procurement activit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o are the key players involv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to participate in Bank funded project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to prepare a responsive bi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(key bid requirements and common pitfalls in bidd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ational Electric Project  Specific inform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re to find more informatio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8" name="Group 6"/>
          <p:cNvGrpSpPr/>
          <p:nvPr/>
        </p:nvGrpSpPr>
        <p:grpSpPr>
          <a:xfrm>
            <a:off x="1681200" y="1390680"/>
            <a:ext cx="247680" cy="228240"/>
            <a:chOff x="1681200" y="1390680"/>
            <a:chExt cx="247680" cy="228240"/>
          </a:xfrm>
        </p:grpSpPr>
        <p:sp>
          <p:nvSpPr>
            <p:cNvPr id="2749" name="Freeform 7"/>
            <p:cNvSpPr/>
            <p:nvPr/>
          </p:nvSpPr>
          <p:spPr>
            <a:xfrm>
              <a:off x="1697400" y="140508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0" name="Freeform 8"/>
            <p:cNvSpPr/>
            <p:nvPr/>
          </p:nvSpPr>
          <p:spPr>
            <a:xfrm>
              <a:off x="1681200" y="139068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1" name="Freeform 9"/>
            <p:cNvSpPr/>
            <p:nvPr/>
          </p:nvSpPr>
          <p:spPr>
            <a:xfrm>
              <a:off x="1692720" y="139860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2" name="Freeform 10"/>
            <p:cNvSpPr/>
            <p:nvPr/>
          </p:nvSpPr>
          <p:spPr>
            <a:xfrm>
              <a:off x="1707480" y="141012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Freeform 11"/>
            <p:cNvSpPr/>
            <p:nvPr/>
          </p:nvSpPr>
          <p:spPr>
            <a:xfrm>
              <a:off x="1723320" y="144720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Freeform 12"/>
            <p:cNvSpPr/>
            <p:nvPr/>
          </p:nvSpPr>
          <p:spPr>
            <a:xfrm>
              <a:off x="1725120" y="153252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5" name="Line 13"/>
            <p:cNvSpPr/>
            <p:nvPr/>
          </p:nvSpPr>
          <p:spPr>
            <a:xfrm>
              <a:off x="1797120" y="141444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6" name="Line 14"/>
            <p:cNvSpPr/>
            <p:nvPr/>
          </p:nvSpPr>
          <p:spPr>
            <a:xfrm>
              <a:off x="1709280" y="150084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Freeform 15"/>
            <p:cNvSpPr/>
            <p:nvPr/>
          </p:nvSpPr>
          <p:spPr>
            <a:xfrm>
              <a:off x="1751040" y="141084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8" name="Freeform 16"/>
            <p:cNvSpPr/>
            <p:nvPr/>
          </p:nvSpPr>
          <p:spPr>
            <a:xfrm>
              <a:off x="1797120" y="141084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9" name="Freeform 17"/>
            <p:cNvSpPr/>
            <p:nvPr/>
          </p:nvSpPr>
          <p:spPr>
            <a:xfrm>
              <a:off x="1681200" y="139068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0" name="Group 18"/>
          <p:cNvGrpSpPr/>
          <p:nvPr/>
        </p:nvGrpSpPr>
        <p:grpSpPr>
          <a:xfrm>
            <a:off x="1778040" y="2556000"/>
            <a:ext cx="247680" cy="228240"/>
            <a:chOff x="1778040" y="2556000"/>
            <a:chExt cx="247680" cy="228240"/>
          </a:xfrm>
        </p:grpSpPr>
        <p:sp>
          <p:nvSpPr>
            <p:cNvPr id="2761" name="Freeform 19"/>
            <p:cNvSpPr/>
            <p:nvPr/>
          </p:nvSpPr>
          <p:spPr>
            <a:xfrm>
              <a:off x="1794240" y="257040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Freeform 20"/>
            <p:cNvSpPr/>
            <p:nvPr/>
          </p:nvSpPr>
          <p:spPr>
            <a:xfrm>
              <a:off x="1778040" y="255600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Freeform 21"/>
            <p:cNvSpPr/>
            <p:nvPr/>
          </p:nvSpPr>
          <p:spPr>
            <a:xfrm>
              <a:off x="1789560" y="256392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4" name="Freeform 22"/>
            <p:cNvSpPr/>
            <p:nvPr/>
          </p:nvSpPr>
          <p:spPr>
            <a:xfrm>
              <a:off x="1804320" y="257544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5" name="Freeform 23"/>
            <p:cNvSpPr/>
            <p:nvPr/>
          </p:nvSpPr>
          <p:spPr>
            <a:xfrm>
              <a:off x="1820160" y="261252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Freeform 24"/>
            <p:cNvSpPr/>
            <p:nvPr/>
          </p:nvSpPr>
          <p:spPr>
            <a:xfrm>
              <a:off x="1821960" y="269784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Line 25"/>
            <p:cNvSpPr/>
            <p:nvPr/>
          </p:nvSpPr>
          <p:spPr>
            <a:xfrm>
              <a:off x="1893960" y="257976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8" name="Line 26"/>
            <p:cNvSpPr/>
            <p:nvPr/>
          </p:nvSpPr>
          <p:spPr>
            <a:xfrm>
              <a:off x="1806120" y="266616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Freeform 27"/>
            <p:cNvSpPr/>
            <p:nvPr/>
          </p:nvSpPr>
          <p:spPr>
            <a:xfrm>
              <a:off x="1847880" y="257616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Freeform 28"/>
            <p:cNvSpPr/>
            <p:nvPr/>
          </p:nvSpPr>
          <p:spPr>
            <a:xfrm>
              <a:off x="1893960" y="257616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Freeform 29"/>
            <p:cNvSpPr/>
            <p:nvPr/>
          </p:nvSpPr>
          <p:spPr>
            <a:xfrm>
              <a:off x="1778040" y="255600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2" name="Group 30"/>
          <p:cNvGrpSpPr/>
          <p:nvPr/>
        </p:nvGrpSpPr>
        <p:grpSpPr>
          <a:xfrm>
            <a:off x="1789200" y="3164040"/>
            <a:ext cx="247680" cy="228240"/>
            <a:chOff x="1789200" y="3164040"/>
            <a:chExt cx="247680" cy="228240"/>
          </a:xfrm>
        </p:grpSpPr>
        <p:sp>
          <p:nvSpPr>
            <p:cNvPr id="2773" name="Freeform 31"/>
            <p:cNvSpPr/>
            <p:nvPr/>
          </p:nvSpPr>
          <p:spPr>
            <a:xfrm>
              <a:off x="1805400" y="317844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Freeform 32"/>
            <p:cNvSpPr/>
            <p:nvPr/>
          </p:nvSpPr>
          <p:spPr>
            <a:xfrm>
              <a:off x="1789200" y="316404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Freeform 33"/>
            <p:cNvSpPr/>
            <p:nvPr/>
          </p:nvSpPr>
          <p:spPr>
            <a:xfrm>
              <a:off x="1800720" y="317196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Freeform 34"/>
            <p:cNvSpPr/>
            <p:nvPr/>
          </p:nvSpPr>
          <p:spPr>
            <a:xfrm>
              <a:off x="1815480" y="318348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Freeform 35"/>
            <p:cNvSpPr/>
            <p:nvPr/>
          </p:nvSpPr>
          <p:spPr>
            <a:xfrm>
              <a:off x="1831320" y="322056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Freeform 36"/>
            <p:cNvSpPr/>
            <p:nvPr/>
          </p:nvSpPr>
          <p:spPr>
            <a:xfrm>
              <a:off x="1833120" y="330588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Line 37"/>
            <p:cNvSpPr/>
            <p:nvPr/>
          </p:nvSpPr>
          <p:spPr>
            <a:xfrm>
              <a:off x="1905120" y="318780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Line 38"/>
            <p:cNvSpPr/>
            <p:nvPr/>
          </p:nvSpPr>
          <p:spPr>
            <a:xfrm>
              <a:off x="1817280" y="327420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Freeform 39"/>
            <p:cNvSpPr/>
            <p:nvPr/>
          </p:nvSpPr>
          <p:spPr>
            <a:xfrm>
              <a:off x="1859040" y="318420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Freeform 40"/>
            <p:cNvSpPr/>
            <p:nvPr/>
          </p:nvSpPr>
          <p:spPr>
            <a:xfrm>
              <a:off x="1905120" y="318420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Freeform 41"/>
            <p:cNvSpPr/>
            <p:nvPr/>
          </p:nvSpPr>
          <p:spPr>
            <a:xfrm>
              <a:off x="1789200" y="316404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4" name="Group 42"/>
          <p:cNvGrpSpPr/>
          <p:nvPr/>
        </p:nvGrpSpPr>
        <p:grpSpPr>
          <a:xfrm>
            <a:off x="1809720" y="3841920"/>
            <a:ext cx="247680" cy="228240"/>
            <a:chOff x="1809720" y="3841920"/>
            <a:chExt cx="247680" cy="228240"/>
          </a:xfrm>
        </p:grpSpPr>
        <p:sp>
          <p:nvSpPr>
            <p:cNvPr id="2785" name="Freeform 43"/>
            <p:cNvSpPr/>
            <p:nvPr/>
          </p:nvSpPr>
          <p:spPr>
            <a:xfrm>
              <a:off x="1825920" y="385632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Freeform 44"/>
            <p:cNvSpPr/>
            <p:nvPr/>
          </p:nvSpPr>
          <p:spPr>
            <a:xfrm>
              <a:off x="1809720" y="384192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Freeform 45"/>
            <p:cNvSpPr/>
            <p:nvPr/>
          </p:nvSpPr>
          <p:spPr>
            <a:xfrm>
              <a:off x="1821240" y="384984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Freeform 46"/>
            <p:cNvSpPr/>
            <p:nvPr/>
          </p:nvSpPr>
          <p:spPr>
            <a:xfrm>
              <a:off x="1836000" y="386136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Freeform 47"/>
            <p:cNvSpPr/>
            <p:nvPr/>
          </p:nvSpPr>
          <p:spPr>
            <a:xfrm>
              <a:off x="1851840" y="389844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Freeform 48"/>
            <p:cNvSpPr/>
            <p:nvPr/>
          </p:nvSpPr>
          <p:spPr>
            <a:xfrm>
              <a:off x="1853640" y="398376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Line 49"/>
            <p:cNvSpPr/>
            <p:nvPr/>
          </p:nvSpPr>
          <p:spPr>
            <a:xfrm>
              <a:off x="1925640" y="386568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Line 50"/>
            <p:cNvSpPr/>
            <p:nvPr/>
          </p:nvSpPr>
          <p:spPr>
            <a:xfrm>
              <a:off x="1837800" y="395208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Freeform 51"/>
            <p:cNvSpPr/>
            <p:nvPr/>
          </p:nvSpPr>
          <p:spPr>
            <a:xfrm>
              <a:off x="1879560" y="386208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Freeform 52"/>
            <p:cNvSpPr/>
            <p:nvPr/>
          </p:nvSpPr>
          <p:spPr>
            <a:xfrm>
              <a:off x="1925640" y="386208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Freeform 53"/>
            <p:cNvSpPr/>
            <p:nvPr/>
          </p:nvSpPr>
          <p:spPr>
            <a:xfrm>
              <a:off x="1809720" y="384192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6" name="Date Placeholder 57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Slide Number Placeholder 58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78F8-E5B5-4B91-9CE3-B8148F3E975D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8" name="Group 42"/>
          <p:cNvGrpSpPr/>
          <p:nvPr/>
        </p:nvGrpSpPr>
        <p:grpSpPr>
          <a:xfrm>
            <a:off x="1901880" y="4748040"/>
            <a:ext cx="247680" cy="228240"/>
            <a:chOff x="1901880" y="4748040"/>
            <a:chExt cx="247680" cy="228240"/>
          </a:xfrm>
        </p:grpSpPr>
        <p:sp>
          <p:nvSpPr>
            <p:cNvPr id="2799" name="Freeform 43"/>
            <p:cNvSpPr/>
            <p:nvPr/>
          </p:nvSpPr>
          <p:spPr>
            <a:xfrm>
              <a:off x="1918080" y="476244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Freeform 44"/>
            <p:cNvSpPr/>
            <p:nvPr/>
          </p:nvSpPr>
          <p:spPr>
            <a:xfrm>
              <a:off x="1901880" y="474804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Freeform 45"/>
            <p:cNvSpPr/>
            <p:nvPr/>
          </p:nvSpPr>
          <p:spPr>
            <a:xfrm>
              <a:off x="1913400" y="475596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2" name="Freeform 46"/>
            <p:cNvSpPr/>
            <p:nvPr/>
          </p:nvSpPr>
          <p:spPr>
            <a:xfrm>
              <a:off x="1928160" y="476748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Freeform 47"/>
            <p:cNvSpPr/>
            <p:nvPr/>
          </p:nvSpPr>
          <p:spPr>
            <a:xfrm>
              <a:off x="1944000" y="480456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4" name="Freeform 48"/>
            <p:cNvSpPr/>
            <p:nvPr/>
          </p:nvSpPr>
          <p:spPr>
            <a:xfrm>
              <a:off x="1945800" y="488988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5" name="Line 49"/>
            <p:cNvSpPr/>
            <p:nvPr/>
          </p:nvSpPr>
          <p:spPr>
            <a:xfrm>
              <a:off x="2017800" y="477180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6" name="Line 50"/>
            <p:cNvSpPr/>
            <p:nvPr/>
          </p:nvSpPr>
          <p:spPr>
            <a:xfrm>
              <a:off x="1929960" y="485820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Freeform 51"/>
            <p:cNvSpPr/>
            <p:nvPr/>
          </p:nvSpPr>
          <p:spPr>
            <a:xfrm>
              <a:off x="1971720" y="476820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Freeform 52"/>
            <p:cNvSpPr/>
            <p:nvPr/>
          </p:nvSpPr>
          <p:spPr>
            <a:xfrm>
              <a:off x="2017800" y="476820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Freeform 53"/>
            <p:cNvSpPr/>
            <p:nvPr/>
          </p:nvSpPr>
          <p:spPr>
            <a:xfrm>
              <a:off x="1901880" y="474804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72684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ocuments Comprising the Bid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4" name=""/>
          <p:cNvSpPr txBox="1"/>
          <p:nvPr/>
        </p:nvSpPr>
        <p:spPr>
          <a:xfrm>
            <a:off x="274680" y="974880"/>
            <a:ext cx="460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a) Letter of Bi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b) Completed schedul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c) Bid Security or Bid Securing Declaration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d) Alternative bids, if permissible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e) Written confirmation authorizing the signatory of the Bid to commit the Bidder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f) Documentary evidence that the Plant and Installation Services offered  are eligible </a:t>
            </a:r>
            <a:r>
              <a:rPr b="0" lang="en-US" sz="2000" spc="-1" strike="noStrike">
                <a:solidFill>
                  <a:srgbClr val="fafd00"/>
                </a:solidFill>
                <a:latin typeface="Agency FB"/>
              </a:rPr>
              <a:t>(country of origin declaration form);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g) Documentary evidence establishing Bidder’s eligibility &amp; qualifications to perform the contract;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5" name=""/>
          <p:cNvSpPr txBox="1"/>
          <p:nvPr/>
        </p:nvSpPr>
        <p:spPr>
          <a:xfrm>
            <a:off x="4754520" y="1020240"/>
            <a:ext cx="5151600" cy="528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h) Documentary evidence that the Plant &amp; Installation Services offered conform to the Bidding Document </a:t>
            </a:r>
            <a:r>
              <a:rPr b="0" lang="en-US" sz="1800" spc="-1" strike="noStrike">
                <a:solidFill>
                  <a:srgbClr val="fafd00"/>
                </a:solidFill>
                <a:latin typeface="Agency FB"/>
              </a:rPr>
              <a:t>(substantial responsiveness of proposal of work requirements and completion time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)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i) In the case of a bid submitted by a Joint Venture,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gency FB"/>
              </a:rPr>
              <a:t>JV agreement, or letter of intent to enter into a JVA including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gency FB"/>
              </a:rPr>
              <a:t>a draft agreement, indicating at least the parts of the Plant to be executed by the respective partners;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j)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List name and nationality of the proposed subcontractors, including manufacturers; an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ency FB"/>
              </a:rPr>
              <a:t>(k)</a:t>
            </a:r>
            <a:r>
              <a:rPr b="1" lang="en-US" sz="2400" spc="-1" strike="noStrike">
                <a:solidFill>
                  <a:srgbClr val="fafd00"/>
                </a:solidFill>
                <a:latin typeface="Agency FB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gency FB"/>
              </a:rPr>
              <a:t>any other document 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required in the BD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6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4991-E351-419F-8143-C508E0C7DCED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96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mportant Provisions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(2)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0" name=""/>
          <p:cNvSpPr txBox="1"/>
          <p:nvPr/>
        </p:nvSpPr>
        <p:spPr>
          <a:xfrm>
            <a:off x="743040" y="1341000"/>
            <a:ext cx="89042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adline for seeking clarification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 later than twenty-eight (28) days prior to the deadline for submission of bids (ITB 7.1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-bid meetings + site visit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obtain all information that may be necessary for preparing the bid and entering into a contract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of Validity of Bid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ids should be valid for the period specified by the Purhaser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1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4CD5-448D-49F3-A358-D36AAA2D57D1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3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96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mportant Provisions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(3)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5" name=""/>
          <p:cNvSpPr txBox="1"/>
          <p:nvPr/>
        </p:nvSpPr>
        <p:spPr>
          <a:xfrm>
            <a:off x="716040" y="1415520"/>
            <a:ext cx="8477280" cy="458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adline for bid submission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ITB 24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te bids are rejected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Attention to bids sent through post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drawal/Modification  of bid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 bid may be withdrawn, substituted, or modified in the interval between the deadline for submission of bids and the expiration of the period of bid validity (ITB 25.3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fidentialit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y attempt by a Bidder to influence the Employer in the evaluation of the bids or Contract award decision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y result in the rejection of its bid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ITB 27.2)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6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7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832A-2DBB-43C5-9795-60A6DED64D7F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8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96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mportant Provisions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(4)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685800" y="1263600"/>
            <a:ext cx="847728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er’s requests for clarification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a Bidder does not provide clarifications of its bid by the date and time set in the Employer’s request for clarification, it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id may be rejected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ITB 28.1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id Pri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ixed Pric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bid submitted with an adjustable price quotation when the Employer requested a fixed price,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ill be treated as non responsive and rejected.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djustable Pric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bid submitted with a fixed price quotation when the Employer requested an adjustable,  wil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 be rejected, but the price adjustment will be treated as zero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1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2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F38D-687A-4816-A923-55692916EB9B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3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mportant Provisions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(5)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id Security (BS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5" name=""/>
          <p:cNvSpPr txBox="1"/>
          <p:nvPr/>
        </p:nvSpPr>
        <p:spPr>
          <a:xfrm>
            <a:off x="198360" y="1203480"/>
            <a:ext cx="46944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gency FB"/>
              </a:rPr>
              <a:t>Validity of Bid Security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270000" indent="-175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gency FB"/>
              </a:rPr>
              <a:t>Important to show bidder is serious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270000" indent="-175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gency FB"/>
              </a:rPr>
              <a:t>Normally between 0.5-2% of bid price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270000" indent="-175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gency FB"/>
              </a:rPr>
              <a:t>Shall be valid for twenty-eight days (28) beyond the original validity period of the bid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270000" indent="-175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gency FB"/>
              </a:rPr>
              <a:t>Any bid not accompanied by a substantially responsive bid security shall be rejected as non responsive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270000" indent="-175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gency FB"/>
              </a:rPr>
              <a:t>Bid security should be in name of bidder NOT agent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270000" indent="-175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gency FB"/>
              </a:rPr>
              <a:t>The bid security may be forfeited if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2" marL="527760" indent="-129240">
              <a:lnSpc>
                <a:spcPts val="2699"/>
              </a:lnSpc>
              <a:buClr>
                <a:srgbClr val="fafd0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gency FB"/>
              </a:rPr>
              <a:t>the Bid is withdrawn during the period of bid validity or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2" marL="527760" indent="-129240">
              <a:lnSpc>
                <a:spcPts val="2699"/>
              </a:lnSpc>
              <a:buClr>
                <a:srgbClr val="fafd0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gency FB"/>
              </a:rPr>
              <a:t>the successful Bidder fails to (i) sign the Contract; or (ii) furnish a performance </a:t>
            </a:r>
            <a:r>
              <a:rPr b="0" lang="en-US" sz="2000" spc="-1" strike="noStrike">
                <a:solidFill>
                  <a:srgbClr val="fafd00"/>
                </a:solidFill>
                <a:latin typeface="Agency FB"/>
              </a:rPr>
              <a:t>security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6" name=""/>
          <p:cNvSpPr txBox="1"/>
          <p:nvPr/>
        </p:nvSpPr>
        <p:spPr>
          <a:xfrm>
            <a:off x="4892400" y="123516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lvl="1" marL="333720" indent="-12240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gency FB"/>
              </a:rPr>
              <a:t>You are killing your bid if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2" marL="377640" indent="-288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The bid security is not included in the bi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377640" indent="-288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The BS is not for the full amoun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377640" indent="-288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The BS is not for the entire bid validity perio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377640" indent="-288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The BS refers to: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589680" indent="-4125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The wrong bidder (in joint ventures, </a:t>
            </a:r>
            <a:r>
              <a:rPr b="0" i="1" lang="en-US" sz="2400" spc="-1" strike="noStrike">
                <a:solidFill>
                  <a:srgbClr val="fafd00"/>
                </a:solidFill>
                <a:latin typeface="Agency FB"/>
              </a:rPr>
              <a:t>all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 partners must be   listed)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589680" indent="-4125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The wrong Employer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589680" indent="-4125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The wrong contract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589680" indent="-4125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Only </a:t>
            </a:r>
            <a:r>
              <a:rPr b="0" i="1" lang="en-US" sz="2400" spc="-1" strike="noStrike">
                <a:solidFill>
                  <a:srgbClr val="fafd00"/>
                </a:solidFill>
                <a:latin typeface="Agency FB"/>
              </a:rPr>
              <a:t>one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 lot (when the bid is for several lots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7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8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9B39-C2B6-49E6-AD3F-ACE969344B0F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9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mportant Provisions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(6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1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ithmetical error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the Bidder that submitted the lowest evaluated bid does not accept the correction of error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s bid shall be declared non-responsive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Responsivenes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bid that does not meet minimum acceptable standards of completeness, consistency and detail, and the specified minimum (or maximum, as the case may be) requirements for specified functional guarantee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ill be rejected for non responsivenes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2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7769-C286-41AF-A2D3-C628CB5EC674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4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mportant Provisions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(7)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raudulent and Corrupt Practices</a:t>
            </a:r>
            <a:br>
              <a:rPr sz="3600"/>
            </a:b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6" name=""/>
          <p:cNvSpPr txBox="1"/>
          <p:nvPr/>
        </p:nvSpPr>
        <p:spPr>
          <a:xfrm>
            <a:off x="182520" y="1096920"/>
            <a:ext cx="376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gency FB"/>
              </a:rPr>
              <a:t>Types of F&amp;C Practice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57636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Corrupt practi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57636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Fraudulent practi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57636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Collusive practi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57636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Coercive practi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57636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Obstructive practi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7" name=""/>
          <p:cNvSpPr txBox="1"/>
          <p:nvPr/>
        </p:nvSpPr>
        <p:spPr>
          <a:xfrm>
            <a:off x="3596760" y="1126800"/>
            <a:ext cx="6309000" cy="530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gency FB"/>
              </a:rPr>
              <a:t>Bank Sanction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242640" indent="-24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Reject the proposal for awar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242640" indent="-24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Declare misprocurement and cancel the portion of the loan allocated to a contract if a representative of the Borrower is involved without the Borrower taking timely and appropriate ac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242640" indent="-24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Declare firm or individual ineligible, indefinitely or for a stated period of time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434520" indent="-191880">
              <a:lnSpc>
                <a:spcPct val="100000"/>
              </a:lnSpc>
              <a:buClr>
                <a:srgbClr val="fafd0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i) to be awarded a Bank-financed contract; and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434520" indent="-191880">
              <a:lnSpc>
                <a:spcPct val="100000"/>
              </a:lnSpc>
              <a:buClr>
                <a:srgbClr val="fafd0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ii) to be a nominated sub-contractor, consultant, supplier, or service provider in a Bank-financed contrac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434520" indent="-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gency FB"/>
              </a:rPr>
              <a:t>LIST OF DEBARRED FIRMS &amp; INDIVIDUAL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2" marL="434520" indent="-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ahoma (Body)"/>
              </a:rPr>
              <a:t>http://www.worldbank.org/debar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2" marL="434520" indent="-191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8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9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F918-4F40-4357-8BD1-6868B1706052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0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1155600" y="334440"/>
            <a:ext cx="78422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nti-corruption Hotlin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 type="subTitle"/>
          </p:nvPr>
        </p:nvSpPr>
        <p:spPr>
          <a:xfrm>
            <a:off x="907560" y="1127160"/>
            <a:ext cx="85028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partment of Institutional Integrity (INT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oll-free: 1-800-831-0463 (24 hours/day)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llect call:  704-556-7046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y mail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MB 3767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3950 Ballantyne Corporate Place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harlotte, NC 28277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, U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hone:  202-458-7677  Fax: 202-522-714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mail: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  <a:ea typeface="Arial"/>
                <a:hlinkClick r:id="rId1"/>
              </a:rPr>
              <a:t>investigationshotline@worldbank.org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bsite: 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  <a:ea typeface="Arial"/>
                <a:hlinkClick r:id="rId2"/>
              </a:rPr>
              <a:t>www.worldbank.org/integrity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lick on "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  <a:ea typeface="Arial"/>
                <a:hlinkClick r:id="rId3"/>
              </a:rPr>
              <a:t>Online Complaint 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"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onymous calls are accepted.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lease be as specific as possible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3" name="Text Box 4"/>
          <p:cNvSpPr/>
          <p:nvPr/>
        </p:nvSpPr>
        <p:spPr>
          <a:xfrm>
            <a:off x="4540320" y="6324480"/>
            <a:ext cx="503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5fb"/>
                </a:solidFill>
                <a:latin typeface="Times New Roman"/>
              </a:rPr>
              <a:t>Working for a world free of pover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ritical and Important Provisions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valuation and Qualification Criteria (Section III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5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ree types of criteria used in evaluation of bid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xclusion/Eligibility Criteria as defined abov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nancial Capacit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echnical Capacit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6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7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CCCC-A3CF-41D2-9685-23716B9370E6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Qualification Criteria- Financial Capac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0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idders should be financially sound  to take on contracts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ocumentary evidence to be provided to include audited financial statements, balance sheets and letters from Bank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1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2B10-2442-4E99-A078-42D4F559B06A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888840" y="3552840"/>
            <a:ext cx="8420400" cy="13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  OVERALL CONTEX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858600" y="2453760"/>
            <a:ext cx="8420040" cy="94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2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513A-CE8A-4747-8DF0-3BE64CCBDDDC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Qualification Criteria- Technical Capac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5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irectly related to the subject matter of contrac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idder should have technical and logistical capacity to deliver within contract tim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ocumentary evidence may include evidence of  similar contracts, ownership or plans to own/hire specialized equipment, key staff qualifications (for installation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6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FB3A-B0E7-46D9-9052-F235C25963B2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can bidders enhance their qualification (1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0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Joint venture (JV) with other bidders. This can be for specific contract or period of tim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Experience of all JV members  will be taken into account during evaluatio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JV to nominate leader and leader has to meet specified minimum qualificatio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All documents –letter of submission, bid security etc- to be in name of JV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JV is bound to the Employer/Purchas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1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2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DB7E-F860-4AC5-89AA-4E84F4A3FBDA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can bidders enhance their qualification (2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5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nter into subcontractor or association type relationships with other bidder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oose arrangement for specific tender or period of tim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Only qualification of main bidder will be taken into accoun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 specific circumstances where scope is varied, subcontractor  experience may be taken into accoun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ubcontractor is not bound to the Employer/Purchase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id security to be in the name of the main contractor not subcontractor or agen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6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7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8329-9C32-48CA-8D06-5A8A4A8252C1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ypical qualification criteria that may be used under specific tenders: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0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eet exclusion/eligibility criteri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Have turnover of at least equal to the  estimated contract amount (Your estimate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ust have successfully completed 1-2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similar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contracts in the past 3-5 years (or specific reasonable value of contract could be specified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ust have logistical capacity to deliver the goods or provide plans to acquire the logistical capacity to deliver goods on time. Delivery plan may be require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1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A7DC-AC22-4818-83F6-519194DD3C9D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3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Who will carry out Procurement under Grid Extension Component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5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ject Management Office (PMO). Set up within MoEP the PMO with 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chnical inputs from user utilities </a:t>
            </a:r>
            <a:r>
              <a:rPr b="1" lang="en-US" sz="2100" spc="-1" strike="noStrike">
                <a:solidFill>
                  <a:srgbClr val="404040"/>
                </a:solidFill>
                <a:latin typeface="Calibri"/>
              </a:rPr>
              <a:t>(YESC, MESC and ESE)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ill be responsible for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efining contract packages of goods and servi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reparing procurement plan and updates thereof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reparing bidding docu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ordinating bid evalu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ing approval of evaluation reports from Government internal approval bodies as necessar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eking No Objection from the Bank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ntract implementation and ensuring goods received are of required quality as per contract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6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5F53-1F54-4850-91AE-0519B1A838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cope of goods and accessories to be procured under NEP Grid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8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istribution transformer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Pol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edium voltage conductor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BC conductor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eter box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sulators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x centra et centra (etc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9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0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4791-8548-4952-92F7-65B413FBB8E8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1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will be the approach to procure these goods? (1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3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upply and delivery of goods and accessories to defined location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s at now , the agreement is that installation will be carried out by government financed contractor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Goods have been packaged  according to market segments – poles, conductors  etc separately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ach package will be  further  divided into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Lot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based on value, geographical locations and utilities responsibiliti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4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5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7594-0475-426C-B3C9-9719EB93BE88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will be the approach to procure these goods? (2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8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Quantities required and value of goods is huge and would require international competition to deliver within  project tim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ternational competitive bidding (ICB) will be used to solicit bids. Adverts will be made globally in Englis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omestic preference of locally  manufactured (not traded) goods of 15% will be given at choice of purchaser and stated in bidding document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idders will be given adequate time of not less than 4 weeks to prepare bids  and form any association of their choi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9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1481-CEDB-4B71-B833-CB93471B8F4D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will these goods be procured? (3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3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Bidders will be post qualified. All qualification documents should be in the bid. No prequalification will be done under the project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Award will be based on Lowest Evaluated Bid (LEB). LEB takes into account price and qualification of bidder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Bidders may be awarded a Lot or combination of Lots  subject to fulfilling qualification criteria for multiple lot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4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5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E133-FEE3-48F0-A4AD-AA1E8DB7F7CA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742680" y="76320"/>
            <a:ext cx="8420040" cy="1218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1d58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uilding Blocks of a Successful Bi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0" name="Line 3"/>
          <p:cNvSpPr/>
          <p:nvPr/>
        </p:nvSpPr>
        <p:spPr>
          <a:xfrm>
            <a:off x="4788000" y="1752480"/>
            <a:ext cx="0" cy="396252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1" name="Line 4"/>
          <p:cNvSpPr/>
          <p:nvPr/>
        </p:nvSpPr>
        <p:spPr>
          <a:xfrm>
            <a:off x="2541600" y="3743280"/>
            <a:ext cx="45576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2" name="Text Box 7"/>
          <p:cNvSpPr/>
          <p:nvPr/>
        </p:nvSpPr>
        <p:spPr>
          <a:xfrm>
            <a:off x="5199480" y="256392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-a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3" name="Text Box 10"/>
          <p:cNvSpPr/>
          <p:nvPr/>
        </p:nvSpPr>
        <p:spPr>
          <a:xfrm>
            <a:off x="3038760" y="4386240"/>
            <a:ext cx="9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Rectangle 11"/>
          <p:cNvSpPr/>
          <p:nvPr/>
        </p:nvSpPr>
        <p:spPr>
          <a:xfrm>
            <a:off x="4803840" y="1554120"/>
            <a:ext cx="2816280" cy="21416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Trac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Opport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Rectangle 13"/>
          <p:cNvSpPr/>
          <p:nvPr/>
        </p:nvSpPr>
        <p:spPr>
          <a:xfrm>
            <a:off x="4770360" y="3809880"/>
            <a:ext cx="2865600" cy="2073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Play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the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6" name="Rectangle 20"/>
          <p:cNvSpPr/>
          <p:nvPr/>
        </p:nvSpPr>
        <p:spPr>
          <a:xfrm>
            <a:off x="1844640" y="3790800"/>
            <a:ext cx="2833560" cy="2092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K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the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Slide Number Placeholder 23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1AAA-6FAE-453E-9511-B7ACA6B922DA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Rectangle 11"/>
          <p:cNvSpPr/>
          <p:nvPr/>
        </p:nvSpPr>
        <p:spPr>
          <a:xfrm>
            <a:off x="1828800" y="1554120"/>
            <a:ext cx="2849400" cy="2157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K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AutoShape 2"/>
          <p:cNvSpPr/>
          <p:nvPr/>
        </p:nvSpPr>
        <p:spPr>
          <a:xfrm>
            <a:off x="2911320" y="3862440"/>
            <a:ext cx="640080" cy="511200"/>
          </a:xfrm>
          <a:prstGeom prst="flowChartConnector">
            <a:avLst/>
          </a:prstGeom>
          <a:solidFill>
            <a:srgbClr val="3365f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AutoShape 2"/>
          <p:cNvSpPr/>
          <p:nvPr/>
        </p:nvSpPr>
        <p:spPr>
          <a:xfrm>
            <a:off x="5851440" y="1744560"/>
            <a:ext cx="641520" cy="511200"/>
          </a:xfrm>
          <a:prstGeom prst="flowChartConnector">
            <a:avLst/>
          </a:prstGeom>
          <a:solidFill>
            <a:srgbClr val="3365f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1" name="AutoShape 2"/>
          <p:cNvSpPr/>
          <p:nvPr/>
        </p:nvSpPr>
        <p:spPr>
          <a:xfrm>
            <a:off x="5883120" y="3908520"/>
            <a:ext cx="640080" cy="511200"/>
          </a:xfrm>
          <a:prstGeom prst="flowChartConnector">
            <a:avLst/>
          </a:prstGeom>
          <a:solidFill>
            <a:srgbClr val="3365f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AutoShape 2"/>
          <p:cNvSpPr/>
          <p:nvPr/>
        </p:nvSpPr>
        <p:spPr>
          <a:xfrm>
            <a:off x="2971800" y="1728720"/>
            <a:ext cx="639720" cy="511200"/>
          </a:xfrm>
          <a:prstGeom prst="flowChartConnector">
            <a:avLst/>
          </a:prstGeom>
          <a:solidFill>
            <a:srgbClr val="3365f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Date Placeholder 1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0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6" name="Footer Placeholder 3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Yangon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7" name="Oval 2"/>
          <p:cNvSpPr/>
          <p:nvPr/>
        </p:nvSpPr>
        <p:spPr>
          <a:xfrm rot="5400000">
            <a:off x="7253640" y="3917160"/>
            <a:ext cx="1692360" cy="2087640"/>
          </a:xfrm>
          <a:prstGeom prst="ellipse">
            <a:avLst/>
          </a:prstGeom>
          <a:solidFill>
            <a:srgbClr val="fafd00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8" name="Oval 3"/>
          <p:cNvSpPr/>
          <p:nvPr/>
        </p:nvSpPr>
        <p:spPr>
          <a:xfrm rot="5400000">
            <a:off x="852840" y="3901320"/>
            <a:ext cx="1752480" cy="1966680"/>
          </a:xfrm>
          <a:prstGeom prst="flowChartConnector">
            <a:avLst/>
          </a:prstGeom>
          <a:solidFill>
            <a:srgbClr val="f57b49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9" name="Rectangle 4"/>
          <p:cNvSpPr/>
          <p:nvPr/>
        </p:nvSpPr>
        <p:spPr>
          <a:xfrm>
            <a:off x="743040" y="380880"/>
            <a:ext cx="84232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Rectangle 5"/>
          <p:cNvSpPr/>
          <p:nvPr/>
        </p:nvSpPr>
        <p:spPr>
          <a:xfrm>
            <a:off x="743040" y="1217520"/>
            <a:ext cx="842328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Rectangle 6"/>
          <p:cNvSpPr/>
          <p:nvPr/>
        </p:nvSpPr>
        <p:spPr>
          <a:xfrm>
            <a:off x="-88920" y="2773440"/>
            <a:ext cx="328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ency FB"/>
              </a:rPr>
              <a:t>Financing Agre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Rectangle 7"/>
          <p:cNvSpPr/>
          <p:nvPr/>
        </p:nvSpPr>
        <p:spPr>
          <a:xfrm>
            <a:off x="836640" y="4694400"/>
            <a:ext cx="176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World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Rectangle 8"/>
          <p:cNvSpPr/>
          <p:nvPr/>
        </p:nvSpPr>
        <p:spPr>
          <a:xfrm>
            <a:off x="7260120" y="4449600"/>
            <a:ext cx="1675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Suppl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Contr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Consul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Oval 9"/>
          <p:cNvSpPr/>
          <p:nvPr/>
        </p:nvSpPr>
        <p:spPr>
          <a:xfrm rot="5400000">
            <a:off x="4001400" y="937080"/>
            <a:ext cx="1660320" cy="26208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Rectangle 10"/>
          <p:cNvSpPr/>
          <p:nvPr/>
        </p:nvSpPr>
        <p:spPr>
          <a:xfrm>
            <a:off x="743040" y="38088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Rectangle 15"/>
          <p:cNvSpPr/>
          <p:nvPr/>
        </p:nvSpPr>
        <p:spPr>
          <a:xfrm>
            <a:off x="3611520" y="1749600"/>
            <a:ext cx="237816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Coun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gency FB"/>
              </a:rPr>
              <a:t>(Implemen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gency FB"/>
              </a:rPr>
              <a:t>Agenc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7" name="Rectangle 16"/>
          <p:cNvSpPr/>
          <p:nvPr/>
        </p:nvSpPr>
        <p:spPr>
          <a:xfrm>
            <a:off x="6023160" y="2879640"/>
            <a:ext cx="4587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ency FB"/>
              </a:rPr>
              <a:t>Bidding Documents/Contr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Rectangle 17"/>
          <p:cNvSpPr/>
          <p:nvPr/>
        </p:nvSpPr>
        <p:spPr>
          <a:xfrm>
            <a:off x="743040" y="17136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Key Pla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Slide Number Placeholder 22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B333-A467-47CE-9610-A7D7F8E8C2CB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AutoShape 18"/>
          <p:cNvSpPr/>
          <p:nvPr/>
        </p:nvSpPr>
        <p:spPr>
          <a:xfrm rot="19040400">
            <a:off x="2293560" y="3311280"/>
            <a:ext cx="1687680" cy="315720"/>
          </a:xfrm>
          <a:prstGeom prst="leftRightArrow">
            <a:avLst>
              <a:gd name="adj1" fmla="val 50000"/>
              <a:gd name="adj2" fmla="val 50040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Rectangle 6"/>
          <p:cNvSpPr/>
          <p:nvPr/>
        </p:nvSpPr>
        <p:spPr>
          <a:xfrm>
            <a:off x="6231600" y="3260880"/>
            <a:ext cx="407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ency FB"/>
              </a:rPr>
              <a:t>(Contractual relationships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AutoShape 18"/>
          <p:cNvSpPr/>
          <p:nvPr/>
        </p:nvSpPr>
        <p:spPr>
          <a:xfrm rot="13779600">
            <a:off x="5707440" y="3462840"/>
            <a:ext cx="1687680" cy="317520"/>
          </a:xfrm>
          <a:prstGeom prst="leftRightArrow">
            <a:avLst>
              <a:gd name="adj1" fmla="val 50000"/>
              <a:gd name="adj2" fmla="val 50002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3" name="Diagram 24" descr=""/>
          <p:cNvPicPr/>
          <p:nvPr/>
        </p:nvPicPr>
        <p:blipFill>
          <a:blip r:embed="rId1"/>
          <a:stretch/>
        </p:blipFill>
        <p:spPr>
          <a:xfrm>
            <a:off x="1682640" y="1816200"/>
            <a:ext cx="6602400" cy="4200480"/>
          </a:xfrm>
          <a:prstGeom prst="rect">
            <a:avLst/>
          </a:prstGeom>
          <a:ln w="0">
            <a:noFill/>
          </a:ln>
        </p:spPr>
      </p:pic>
      <p:sp>
        <p:nvSpPr>
          <p:cNvPr id="2834" name="Rectangle 6"/>
          <p:cNvSpPr/>
          <p:nvPr/>
        </p:nvSpPr>
        <p:spPr>
          <a:xfrm>
            <a:off x="-381600" y="3154320"/>
            <a:ext cx="408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ency FB"/>
              </a:rPr>
              <a:t>(Contractual relationshi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Rectangle 6"/>
          <p:cNvSpPr/>
          <p:nvPr/>
        </p:nvSpPr>
        <p:spPr>
          <a:xfrm>
            <a:off x="2677680" y="5897520"/>
            <a:ext cx="479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</a:rPr>
              <a:t>(Non Contractual relationships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55"/>
                </a:solidFill>
                <a:latin typeface="Gill Sans MT"/>
              </a:rPr>
              <a:t>Specific  Project Procurement Information</a:t>
            </a:r>
            <a:endParaRPr b="0" lang="en-US" sz="32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024" name=""/>
          <p:cNvSpPr txBox="1"/>
          <p:nvPr/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N  Development Business – Adverts for all large value tenders (above US$200,000 for goods, US$300,000 for works and US$100,000  for consultancie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ank external website: 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documents.worldbank.org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then search for procurement plans for MM projects 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rocurement plans can be search from  : 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Gill Sans MT"/>
                <a:hlinkClick r:id="rId2"/>
              </a:rPr>
              <a:t>http://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Gill Sans MT"/>
                <a:hlinkClick r:id="rId3"/>
              </a:rPr>
              <a:t>documents.worldbank.org/curated/en/docadvancesearch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or http://worldbank.org, then go to 'Publication', select 'Documents and Reports', 'Advance Search', select country and document typ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roject appraisal Document contains first approved procurement pl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dverts in local newspap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orrower implementing agency stated in Project Appraisal Docu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5" name="Slide Number Placeholder 3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DFF9-92D0-4FE8-950E-D5BA745E47CE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7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37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hen In Doub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334800" y="1276200"/>
            <a:ext cx="8585280" cy="51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Ask up front, do NOT guess or assum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Contact the client in writing and seek clarific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Ask for more time if necessary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If bidding documents have excessive requirements or other unacceptable conditions (restrictions, brand names, etc.), contact the client in writing before the bid closing date, asking for corrections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57b49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Copy the World Bank (TTL , Regional Procurement Manager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57b49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Remember, the WB </a:t>
            </a:r>
            <a:r>
              <a:rPr b="0" i="1" lang="en-US" sz="2400" spc="-1" strike="noStrike">
                <a:solidFill>
                  <a:srgbClr val="fafd00"/>
                </a:solidFill>
                <a:latin typeface="Agency FB"/>
              </a:rPr>
              <a:t>does not 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provide clarification on behalf of the client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57b49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Refer to appendix 3 “Guidance to Bidders” of Procurement </a:t>
            </a:r>
            <a:r>
              <a:rPr b="0" i="1" lang="en-US" sz="2400" spc="-1" strike="noStrike">
                <a:solidFill>
                  <a:srgbClr val="fafd00"/>
                </a:solidFill>
                <a:latin typeface="Agency FB"/>
              </a:rPr>
              <a:t>Guidelines: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0" name="Slide Number Placeholder 6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842B-D1C4-4D43-8821-B4A6559DC3F5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omplain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2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ddress all queries or complaints to the Implementing Agenc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py the Bank (TTL + Regional Procurement Manager) or write to the Bank directly when borrowers do not respond promptly, or if the communication is a complaint against the Borrower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idders may request a debriefing about his bid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3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F2CC-6373-43F3-AA59-678964653211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5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Date Placeholder 1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7" name="Footer Placeholder 3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8" name="Rectangle 2"/>
          <p:cNvSpPr/>
          <p:nvPr/>
        </p:nvSpPr>
        <p:spPr>
          <a:xfrm>
            <a:off x="709560" y="46080"/>
            <a:ext cx="8420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9" name="Rectangle 3"/>
          <p:cNvSpPr/>
          <p:nvPr/>
        </p:nvSpPr>
        <p:spPr>
          <a:xfrm>
            <a:off x="1816200" y="1981080"/>
            <a:ext cx="6273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0" name="WordArt 4"/>
          <p:cNvSpPr txBox="1"/>
          <p:nvPr/>
        </p:nvSpPr>
        <p:spPr>
          <a:xfrm>
            <a:off x="1816200" y="2362320"/>
            <a:ext cx="6032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41" name="Slide Number Placeholder 8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B8B5-2F6B-47C7-814B-8B77D937E66F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 Countr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7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Government of the Union of Myanama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mplementing Agencie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Line Ministries or Project Mgt Units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ctor-Energ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ocal Customs/Country Laws &amp; Regulation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Procurement laws/Regulations; Investment laws; Tax regime etc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omestic Private Sect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Competitors, potential partners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8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1A04-3A1A-4B38-99B9-88C7EFAAE99B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Myanmar Portfolio at Glance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842" name="Slide Number Placeholder 2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4965-3002-4728-9531-740A5F6A6174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3" name="Chart 3" descr=""/>
          <p:cNvPicPr/>
          <p:nvPr/>
        </p:nvPicPr>
        <p:blipFill>
          <a:blip r:embed="rId1"/>
          <a:stretch/>
        </p:blipFill>
        <p:spPr>
          <a:xfrm>
            <a:off x="1835280" y="1152360"/>
            <a:ext cx="623556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742680" y="503280"/>
            <a:ext cx="84200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Roles in Bank-funded Project</a:t>
            </a:r>
            <a:br>
              <a:rPr sz="3200"/>
            </a:b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5" name="Date Placeholder 2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Slide Number Placeholder 3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B7FB-7184-4D25-A764-D0F7CDCCFFA2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Footer Placeholder 4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8" name="Diagram 5" descr=""/>
          <p:cNvPicPr/>
          <p:nvPr/>
        </p:nvPicPr>
        <p:blipFill>
          <a:blip r:embed="rId1"/>
          <a:stretch/>
        </p:blipFill>
        <p:spPr>
          <a:xfrm>
            <a:off x="536400" y="914400"/>
            <a:ext cx="8547120" cy="55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495000" y="21240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Roles in Procuremen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479160" y="1047600"/>
            <a:ext cx="4376520" cy="64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gency FB"/>
              </a:rPr>
              <a:t>World Bank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258840" y="1778040"/>
            <a:ext cx="495288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Assess country procurement system, capacity of implementing agency, and procurement risk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Assist in procurement planning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Training, knowledge/best practice sharing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Monitor compliance with Financing Agreement and Procurement Pla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Review bid documents and evaluation reports prior to issuance and award of contract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Investigate fraud and corruption allegation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5032440" y="1123560"/>
            <a:ext cx="437832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 fontScale="64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gency FB"/>
              </a:rPr>
              <a:t>MEPE and Utilities (Implementing agency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5303880" y="1762200"/>
            <a:ext cx="41068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Prepare Procurement Plan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Advertise bidding opportunitie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Prepare/issue bidding document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Receive/evaluate bids/proposal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Award /Implement contract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Ensure compliance with Financing Agreement and Procurement Plan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Arrange for project/program audi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4" name="Date Placeholder 6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5" name="Slide Number Placeholder 7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FEBD-2BFA-49B8-BF78-5B139830437A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Footer Placeholder 8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Steps  and actors in bidding proces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2858" name=""/>
          <p:cNvGraphicFramePr/>
          <p:nvPr/>
        </p:nvGraphicFramePr>
        <p:xfrm>
          <a:off x="892080" y="1846440"/>
          <a:ext cx="8172720" cy="4587840"/>
        </p:xfrm>
        <a:graphic>
          <a:graphicData uri="http://schemas.openxmlformats.org/drawingml/2006/table">
            <a:tbl>
              <a:tblPr/>
              <a:tblGrid>
                <a:gridCol w="2809800"/>
                <a:gridCol w="1851120"/>
                <a:gridCol w="1468440"/>
                <a:gridCol w="2043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ernment Ro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nk Ro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vate sec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e procurement plan and cost estim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involv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e bidding docu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involv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sue bidding docu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ertise and iss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ys or coll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ification on bidding docu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sue clarific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k clarific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ission of b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es, records in publ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 b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recommend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involv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d of contr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</a:tbl>
          </a:graphicData>
        </a:graphic>
      </p:graphicFrame>
      <p:sp>
        <p:nvSpPr>
          <p:cNvPr id="2859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C017-215D-40EF-B421-135B00A0EC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8:21:56Z</dcterms:created>
  <dc:creator>Knut Leipold</dc:creator>
  <dc:description/>
  <dc:language>en-US</dc:language>
  <cp:lastModifiedBy>Chaw Su Devi</cp:lastModifiedBy>
  <cp:lastPrinted>2015-10-26T03:41:01Z</cp:lastPrinted>
  <dcterms:modified xsi:type="dcterms:W3CDTF">2015-12-08T08:26:34Z</dcterms:modified>
  <cp:revision>1204</cp:revision>
  <dc:subject>Forum Stuttgart</dc:subject>
  <dc:title>Business Seminar</dc:title>
</cp:coreProperties>
</file>